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71B2-6AAE-4522-880E-F1CC84AD969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6B2E-0308-4B13-A378-B232ED7BF5D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6875-9114-4618-8763-CBC652666A1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210-92AD-4F50-B54D-F17441E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A22-8342-4185-8F19-6016A0E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088-91C8-4877-B058-9BEA1ACA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00D-935D-4B17-88F3-27C5A51B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E03A-EC42-4AB5-93F9-C997986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5D50-7CEA-4DC5-A906-7068C6F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6AA-F503-47A7-9A36-8132B86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8674-21AB-427E-8EB8-A1DAA83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8B4-4290-4B9F-B7FB-BAD3CAD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DE4D-5464-4F28-92E7-61581B3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D85-72FD-4EB6-B4B7-B9CD015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035-68B2-4B1F-821D-5A6049E5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DE9C-6837-4265-9553-7DC8D6A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211-D780-4776-91F3-083DF15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BF0-0B51-44C8-B4FF-B87F665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381-6A3D-4C0D-AFC6-F9CD0D18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6151-3B14-44FB-9D19-A96A91D8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A6A-38CA-4311-9072-116B2357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AD6-580B-4729-831C-CB41860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DC7-744C-4A44-8053-C7CAD48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9A3-BECD-428B-8E55-F7ECAFD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D22-8540-4F0A-9907-AF52A60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C29-167B-495B-9D96-85C05F5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599-94E5-4A32-9D67-F8BFF18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F1C-5486-4C1E-96F1-6959ACAF9216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A8AA-7581-46A8-B2AC-A732C6A1A61E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pcira@dgs.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Ficheiro:Clostridium_difficile_01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18760" y="1355400"/>
            <a:ext cx="70390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VENÇÃO E CONTROLO DE </a:t>
            </a:r>
            <a:r>
              <a:rPr b="1" i="1" lang="pt-PT" sz="4400" spc="-1" strike="noStrike">
                <a:solidFill>
                  <a:srgbClr val="ff0000"/>
                </a:solidFill>
                <a:latin typeface="Open Sans"/>
              </a:rPr>
              <a:t>Clostridium difficil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Formação do PPCIRA sobre PBCI/PBVT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Imagem 4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6388200" y="0"/>
            <a:ext cx="2755800" cy="14907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4"/>
          <p:cNvSpPr/>
          <p:nvPr/>
        </p:nvSpPr>
        <p:spPr>
          <a:xfrm>
            <a:off x="2286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cira@dgs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Sinais / Sintom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599840"/>
            <a:ext cx="81532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Fezes com muco e sangue ocult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Febre (&gt; 38.5°C), perda de apetite, náuseas, cólicas e desconforto abdominal; leucocitose periférica (surge em +- 50% dos doentes) e hipoalbuminemia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a doença severa:        íleo ou dilatação tóxica, com dor e distensão abdominal mas com diarreia mínima ou ausente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licações associadas:    desidratação, desiquilibro eletrolítico, hipoalbuminémia, megacólon tóxico, perfuração intestinal, hipotensão, falência renal, síndrome de resposta inflamatória sistémica, sépsis e morte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Right Arrow 3"/>
          <p:cNvSpPr/>
          <p:nvPr/>
        </p:nvSpPr>
        <p:spPr>
          <a:xfrm>
            <a:off x="3657600" y="335268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4"/>
          <p:cNvSpPr/>
          <p:nvPr/>
        </p:nvSpPr>
        <p:spPr>
          <a:xfrm>
            <a:off x="4648320" y="441972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533520"/>
            <a:ext cx="86104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diagnóstico precoce é essencial para prevenir e controlar o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nas US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 presença de clínica sugestiva, deverá ser solicitada a pesquisa de toxinas A e B de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em fezes não moldadas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s situações em que se suspeite de íleos associado a DACD, o laboratório deve ser expressamente avisado disso para que a amostra não seja recusada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laboratório deverá dispor de teste que possua os melhores critérios de resultados em termos de sensibilidade, especificidade e valores preditivos positivo e negativo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 teste para pesquisa das toxinas é clinicamente o mais importante porque permite obter resultados rapidamente, mas tem valor limitado pela sua reduzida sensibilidade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Devem ser respeitadas as recomendações do laboratório para a conservação e transporte das amostras, já que as toxinas são lábeis à temperatura ambiente (podem desaparecer no intervalo de duas horas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Se o primeiro resultado for negativo e existe uma forte suspeita clínica, enviar nova amostra 24 horas depois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 pesquisa de toxina não deve ser requerida como meio de verificar a eficácia da terapêutica nem como teste de rastreio em doentes sem sinais e sintomas de DACD (B)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penas se devem repetir os testes nos doentes, com identificação prévia de toxina positiva para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, se houver suspeita de recorrência e tiverem sido excluídas outras possíveis causas para a diarreia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Apesar da cultura de fezes não ser prática pela demora na obtenção de resultados, a sensibilidade e especificidade da cultura, seguida de identificação toxicológica, realizada por laboratório experiente permite servir de padrão para comparação de resultados com outros testes (B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Na suspeita de íleos, megacolon tóxico ou colite pseudomembranosa sem diarreia, poderá haver necessidade de optar por outros procedimentos diagnósticos, como por exemplo, colonoscopia, contagem de leucócitos, creatinina sérica e exame imagiológico abdominal (B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95280"/>
            <a:ext cx="8153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ducação dos profissionais de saúde sobre: mecanismos básicos de patogenicidade d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, reservatórios potenciais, via de transmissão, contaminação do ambiente, descontaminação de superfícies e equipamentos, higiene das mãos e uso de EPI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fissionais e visitas devem usar luvas (A) e bata de proteção (B) para contacto físico com o doente ou superfícies da unidade do doente com DACD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s profissionais devem cumprir com a higiene das mãos (A). Está recomendada após o contacto com fezes, ou outras substâncias corporais, ou após qualquer potencial contaminação das mãos (contacto com o ambiente ou doente com DACD) e após a remoção do equipamento de proteção individual (B);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SABA não é eficaz na remoção dos esporos, pelo que é necessária a higiene das mãos com água e sabão para prevenir a disseminação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struir doentes e visitas para higienizar as mãos com água e sabão antes de comer, após utilizar os sanitários e quando entrar ou sair da US (B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23520"/>
            <a:ext cx="792504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locar os doentes com DACD em quarto individual, com lavatório e casa de banho, e aplicar precauções de contacto (B). Se não houver quarto individual disponível, agrupar doentes (cohort), individualizando o equipamento de eliminação para cada doente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anter precauções de isolamento de contacto durante o período de diarreia e até 48 horas após regulação do trânsito intestinal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 rastreio por rotina de portadores assintomáticos (doentes ou profissionais de saúde)  no âmbito do controlo de infeção, não é recomendado (A) e o tratamento de eventuais portadores assintomáticos  não é efetivo (B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edidas de Control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6761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Quando o doente é transferido para outra US (incluindo lar de 3.ª idade e UCCI) é imperativa a partilha de informação sobre a DACD ou episódios prévios, de modo a permitir a organização dos cuidados necessários (B)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o contacto com cadáveres deverão cumprir-se os procedimentos aplicados aos doente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sujidade fecal em torno dos cadáveres deve ser limpa com água e detergente, seguida de desinfeção com hipoclorito de sódio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evem ser cumpridas as precauções básicas de isolamento tanto no transporte como na casa mortuária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295280"/>
            <a:ext cx="853452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identificação e remoção de fontes ambientais de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. difficile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(incluindo a substituição de termómetros retais por termómetros de uso único) podem reduzir a incidência de DACD (B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impar e desinfetar regularmente as unidades dos doentes com DACD (incluindo superfícies de contacto frequente: mesas, cadeiras, manípulos de porta, campainha, controlo de cama, interruptores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nsiderar o aumento de frequência de descontaminação das unidades dos doentes com diarreia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m áreas com aumento das taxas de DACD, usar agentes de limpeza com cloro ou outros agentes esporicidas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447920"/>
            <a:ext cx="8153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s superfícies visivelmente contaminadas com fezes devem ser limpas e desinfetadas o mais rapidamente possível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ós a alta do doente com DACD, a área deve ser limpa e desinfetada completamente (incluindo cortinas separadoras); (B). Pode haver necessidade de considerar o uso de vapor de peroxido de hidrogénio para uma total desinfeção de ambiente/equipamento em áreas de isolamento.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pesquisa de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no ambiente, por rotina, não é recomendada (C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a desinfeção, utilizar hipoclorito de sódio na concentração de 1000ppm de cloro (B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Limpeza e desinfeção ambienta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371600"/>
            <a:ext cx="81532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Os equipamentos utilizados na descontaminação das áreas de doentes com DACD devem estar devidamente identificados e não devem ser utilizados noutros locai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dividualizar equipamentos (por ex: termómetros, arrastadeiras, manga de pressão arterial, estetoscópio) e descontaminá-los após utilização (B)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ve ser utilizado equipamento de proteção individual aquando do manuseamento de roupa suja e de resíduo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 roupa e resíduos devem ser colocados em contentores fechado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ceder à higiene das mãos após a remoção do equipamento de proteçã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Restrições ao uso de antibióticos 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218960"/>
            <a:ext cx="7696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Interromper qualquer antibiótico (não relacionado com o tratamento da DACD) em doente com DACD logo que possível (A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Rever a frequência, duração e tipo de terapêutica AB, evitar o uso de agentes de elevado risco (ex. cefalosporinas, penicilinas de espectro alargado, fluoroquinolonas e clindamicina) em doentes de risco (B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uditar a prescrição de antibióticos e fornecer informação de retorno aos prescritores, poderá ser útil na mudança de hábitos (A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Definir, aplicar e monitorizar um programa de uso racional de antibioterapia (A). Pode ser útil basear-se na epidemiologia local, restringindo o uso de cefalosporinas e clindamicina (exceto na profilaxia cirúrgica) (C)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Profilaxia antibiótica não deve continuar para além das 24 horas após o procedimento cirúrgico (A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Open Sans"/>
              </a:rPr>
              <a:t>Uso de probióticos: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não é recomendado para prevenção de DACD primária. São limitados os dados que suportam a sua utilização e constitui risco potencial para desenvolver INCS. (C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Tratament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O tratamento de um 1.º episódio é iniciado em função da avaliação dos sintomas e gravidade da doença, tendo em consideração os fatores de risco individuais. (II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5"/>
          <p:cNvSpPr/>
          <p:nvPr/>
        </p:nvSpPr>
        <p:spPr>
          <a:xfrm>
            <a:off x="712800" y="1828800"/>
            <a:ext cx="198108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Calibri"/>
              </a:rPr>
              <a:t>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562040" y="3548160"/>
            <a:ext cx="221004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Calibri"/>
              </a:rPr>
              <a:t>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ixaDeTexto 7"/>
          <p:cNvSpPr/>
          <p:nvPr/>
        </p:nvSpPr>
        <p:spPr>
          <a:xfrm>
            <a:off x="1066680" y="2438280"/>
            <a:ext cx="7772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bordar as medidas básicas de prevenção da infecção por </a:t>
            </a:r>
            <a:r>
              <a:rPr b="0" i="1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lostridium diff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8"/>
          <p:cNvSpPr/>
          <p:nvPr/>
        </p:nvSpPr>
        <p:spPr>
          <a:xfrm>
            <a:off x="990720" y="4309920"/>
            <a:ext cx="7848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onsolidar conhecimentos sobre este microrganismo “al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Familiar os formandos com as medidas básicas de prevenção da transmissão cruzada deste microrga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ângulo arredondado 10"/>
          <p:cNvSpPr/>
          <p:nvPr/>
        </p:nvSpPr>
        <p:spPr>
          <a:xfrm>
            <a:off x="2057400" y="6094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ffff"/>
                </a:solidFill>
                <a:latin typeface="Calibri"/>
              </a:rPr>
              <a:t>OBJEC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Tratamento – Medidas Gerais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142640"/>
            <a:ext cx="70106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mover o uso de antibióticos de espectro restrito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omover a monitorização clínica utilizando os critérios clínicos e laboratoriais durante o período de sintomatologia (B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o caso de suspeita de DACD grave iniciar o tratamento empírico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 o resultado da pesquisa de toxinas é negativo, a decisão para iniciar, continuar ou interromper o tratamento deve ser individualizada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 possível, evitar o uso de agentes antiperistálticos por poderem mascarar os sintomas e precipitar um megacólon tóxico (C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a DACD severa ou severa com complicações é recomendada a admissão hospitalar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Tratamento – Medidas Individuai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905120"/>
            <a:ext cx="7925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terromper a toma de AB o mais rapidamente possível, pelo facto de influenciarem o risco de recorrência de DACD (A);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aso se mantenha o tratamento com antibióticos pode ser necessário prolongar o tratamento da DACD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nterromper o uso de antidiarreicos e agentes supressores de suco gástrico (incluindo inibidores de bomba de protões) se possível (B)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62120" y="1676520"/>
          <a:ext cx="7848360" cy="4572000"/>
        </p:xfrm>
        <a:graphic>
          <a:graphicData uri="http://schemas.openxmlformats.org/drawingml/2006/table">
            <a:tbl>
              <a:tblPr/>
              <a:tblGrid>
                <a:gridCol w="1628640"/>
                <a:gridCol w="1984320"/>
                <a:gridCol w="2205000"/>
                <a:gridCol w="2030400"/>
              </a:tblGrid>
              <a:tr h="95076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vidade da DACD e episódio inicial ou recorr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térios clí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térios laboratori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2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Suave ou mode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(A-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Episódio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Primeira recorr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zes aquosas/liquidas, não formadas, com muco e sangue oculto (3 a 5 dejeções nas 24 horas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bre (&gt; 38.5°C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ca de apetite, náuseas, cólicas e desconforto abdom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 ≤ 15x10</a:t>
                      </a:r>
                      <a:r>
                        <a:rPr b="0" lang="pt-PT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eatinina sérica &lt;1.5 mg/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400/500mg oral 3 tomas diárias durante 10 a 14 d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 não tolera terapêutica o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500 mg EV 8/8 h durante 10 d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 não melhora ao fim de 3-5 d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125 mg oral 4 tomas diárias durante 10 a 14 d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295280" y="990720"/>
          <a:ext cx="7239240" cy="5867280"/>
        </p:xfrm>
        <a:graphic>
          <a:graphicData uri="http://schemas.openxmlformats.org/drawingml/2006/table">
            <a:tbl>
              <a:tblPr/>
              <a:tblGrid>
                <a:gridCol w="1501920"/>
                <a:gridCol w="1830240"/>
                <a:gridCol w="2033640"/>
                <a:gridCol w="1873440"/>
              </a:tblGrid>
              <a:tr h="58672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B-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pisódio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eira recorr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bre (&gt; 38.5°C), instabilidade hemodinâmica, peritonite ou evidência de perfuração intestinal, íleos ou megacólon to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 &gt;15x10</a:t>
                      </a:r>
                      <a:r>
                        <a:rPr b="0" lang="pt-PT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&lt;20% Neutrófil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ctato 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o do nível de creatinina (&gt; 50% acima do valor basal) ou creatinina sérica ≥ 1.5 mg/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bumina &lt;2.5 g/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125mg oral 4 tomas diárias durante 10 a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e não tolera terapêutica ora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ronidazol 500 mg EV 8/8 horas durante 10 di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500mg/100ml em soro fisiológico (enema de retenção) a intervalos de 4-12 h horas) e/ou Vancomicina 500mg 4xid pela sonda nasogás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09480" y="2286000"/>
          <a:ext cx="8077320" cy="2590920"/>
        </p:xfrm>
        <a:graphic>
          <a:graphicData uri="http://schemas.openxmlformats.org/drawingml/2006/table">
            <a:tbl>
              <a:tblPr/>
              <a:tblGrid>
                <a:gridCol w="1676520"/>
                <a:gridCol w="2041560"/>
                <a:gridCol w="2270160"/>
                <a:gridCol w="2089080"/>
              </a:tblGrid>
              <a:tr h="259092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vera complicada (C-I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furação 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terioração (inclui íleos sev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p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ctato&gt; 5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ucócitos&gt; 50x10</a:t>
                      </a:r>
                      <a:r>
                        <a:rPr b="0" lang="pt-PT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irurg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colectomia parcial com preservação do reto (B-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62120" y="1676520"/>
          <a:ext cx="7772400" cy="4800600"/>
        </p:xfrm>
        <a:graphic>
          <a:graphicData uri="http://schemas.openxmlformats.org/drawingml/2006/table">
            <a:tbl>
              <a:tblPr/>
              <a:tblGrid>
                <a:gridCol w="1612800"/>
                <a:gridCol w="1965240"/>
                <a:gridCol w="2183040"/>
                <a:gridCol w="2011320"/>
              </a:tblGrid>
              <a:tr h="48006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gunda recorrência e subsequen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B-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c000"/>
                          </a:solidFill>
                          <a:latin typeface="Arial"/>
                          <a:ea typeface="Calibri"/>
                        </a:rPr>
                        <a:t>Recomendada admissão hospi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comicina em esquema exempl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HEA-IDS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4xid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2x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dias alternados 2-8 se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H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4xid 14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2x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id 7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5mg oral 3/3dias 28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50840" y="111960"/>
            <a:ext cx="524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 u="sng" baseline="30000">
                <a:solidFill>
                  <a:srgbClr val="0000ff"/>
                </a:solidFill>
                <a:uFillTx/>
                <a:latin typeface="Arial"/>
                <a:ea typeface="Calibri"/>
                <a:hlinkClick r:id="rId1" action="ppaction://hlinksldjump"/>
              </a:rPr>
              <a:t>[1]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Calibri"/>
              </a:rPr>
              <a:t> Na segunda recorrência segundo a SHEA e IDSA; na terceira recorrência segundo N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599840"/>
            <a:ext cx="80010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Não usar Metronidazol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ara além da 1.ª recorrência ou por um longo período (&gt; a 4-6 semanas) dado o potencial efeito cumulativo de neurotoxicidade (B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 uso prolongado de Vancomicina pode constituir risco de seleção de Enterococos e Estafilococos resistentes à Vancomicina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duração usual de tratament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 10 dias para doentes que estejam a responder à terapêutica. Alguns doentes podem requerer mais de 14 dias de terapêutica, a qual deve ser interrompida com a maior brevidade possível de modo a permitir a reconstrução da flora normal do intestin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Falência do tratamento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m melhoria clínica ou aumento do número de dejeções após 3 5 dias de terapêutic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RECOMENDAÇÕES PARA DOENTES E FAMILIARES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905120"/>
            <a:ext cx="80773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Higiene das mãos após contacto com pessoa ou superfícies próximas, com água e sabão liquid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Lavagem da roupa em separado a temperatura ≥ 60°C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toalhas devem ser lavadas após cada utilizaçã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carpetes devem ser aspiradas e o chão lavado diariamente. Lavar as carpetes a vapor se visivelmente suja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RECOMENDAÇÕES PARA DOENTES E FAMILIARES</a:t>
            </a:r>
            <a:br>
              <a:rPr sz="9600"/>
            </a:br>
            <a:br>
              <a:rPr sz="96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371240"/>
            <a:ext cx="83059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sar lixivia diluída 1:10 (1 medida de lixivia e 9 medidas de água fria) para limpar superfícies e chão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mover sujidade (fezes) visível com toalhete de papel ou pano descartável (se for reutilizado pode ocasionar a disseminação dos esporos para outras superfícies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licar a lixívia diluída com outro toalhete de papel ou pano descartável (para remoção de qualquer sujidade que permaneça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plicar novamente a lixivia diluída com outro toalhete ou pan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660960" indent="-2541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r luvas descartáveis para proceder à limpeza de sujidade visível (fezes ou vómito). É importante a lavagem das mãos após a remoção das luva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essoa infetad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9320" y="761760"/>
            <a:ext cx="7315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 o doente está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sem diarreia há mais de 48 horas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, mesmo que esteja ainda sob terapêutica para o tratamento da infeção por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D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, não são necessários cuidados especiai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higiene das mãos por rotina e a limpeza habitual da casa, são suficientes. Deve ser instruído para a necessidade de alertar o seu médico para o facto de ter tido DACD, caso venha a necessitar de antibióticos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 o doente está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 diarreia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comendar higiene das mãos frequente, particularmente após uso de instalações sanitárias e antes de comer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empre que possível, o doente deve evitar preparar alimentos para outras pessoas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.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comendar banho diário, se possível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urante o período com diarreia é importante limpar e desinfetar a sanita, com lixivia diluída a 1:10 (assento e botão de autoclismo), após cada utilização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partilhar toalhas, toalhas de rosto ou escova de dentes com outros membros da família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Doença Associada ao 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Clostridium difficile (DACD)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71600"/>
            <a:ext cx="84582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9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- bactéria anaeróbia, Gram positiva, esporulada, é responsável pela colite associada a antibioterapia e por 15-20% dos casos de diarreia nosocomial associada a antibióticos. 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Os esporos, resistentes ao calor, detergentes e desinfetantes, podem permanecer por longos períodos no ambiente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Vários estudos demonstraram que &gt; de 50% dos doentes internados no hospital são portadores assintomáticos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Os sintomas surgem, em média, 2-3 dias após a colonização e 5 a 10 dias após o início da toma de antibióticos. 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Open Sans"/>
              </a:rPr>
              <a:t>Relatos de início dos mesmos 2 dias após a 1.ª toma de antibióticos e até 10 semanas após a conclusão do tratamento.</a:t>
            </a: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02" name="Picture 13" descr="C. diffic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0"/>
            <a:ext cx="2095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3"/>
          <p:cNvSpPr/>
          <p:nvPr/>
        </p:nvSpPr>
        <p:spPr>
          <a:xfrm>
            <a:off x="706320" y="93600"/>
            <a:ext cx="7139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Atuação na suspeita/diagnostico de Doença Associada a Clostridium diffic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7"/>
          <p:cNvSpPr/>
          <p:nvPr/>
        </p:nvSpPr>
        <p:spPr>
          <a:xfrm>
            <a:off x="561960" y="669960"/>
            <a:ext cx="79930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Definição de caso</a:t>
            </a: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: fezes aquosas/liquidas ou moldáveis a contentor, com frequência aumentada nas 24 horas ou num curto período de tempo, sem reconhecimento de outra etiologia (laxantes, alimentação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8"/>
          <p:cNvSpPr/>
          <p:nvPr/>
        </p:nvSpPr>
        <p:spPr>
          <a:xfrm>
            <a:off x="1427040" y="1461960"/>
            <a:ext cx="6048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Aplicação de medidas adicionais de isolamento de contacto em adição às medidas básicas de isol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ixaDeTexto 9"/>
          <p:cNvSpPr/>
          <p:nvPr/>
        </p:nvSpPr>
        <p:spPr>
          <a:xfrm>
            <a:off x="561960" y="2109960"/>
            <a:ext cx="78487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Fezes para pesquisa de toxinas A e B (não enviar zaragatoa retal ou fezes moldad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Não realizar cultura de fezes em doentes assinto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Não colher fezes a crianças com idade inferior a 1 ano (CD faz parte da flora normal neste grup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10"/>
          <p:cNvSpPr/>
          <p:nvPr/>
        </p:nvSpPr>
        <p:spPr>
          <a:xfrm>
            <a:off x="1785960" y="2973240"/>
            <a:ext cx="133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ixaDeTexto 11"/>
          <p:cNvSpPr/>
          <p:nvPr/>
        </p:nvSpPr>
        <p:spPr>
          <a:xfrm>
            <a:off x="6035760" y="2973240"/>
            <a:ext cx="1279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12"/>
          <p:cNvSpPr/>
          <p:nvPr/>
        </p:nvSpPr>
        <p:spPr>
          <a:xfrm>
            <a:off x="5315040" y="3549600"/>
            <a:ext cx="33112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Segunda colheita de fezes se doente está sint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13"/>
          <p:cNvSpPr/>
          <p:nvPr/>
        </p:nvSpPr>
        <p:spPr>
          <a:xfrm>
            <a:off x="5791320" y="4270320"/>
            <a:ext cx="1295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  <a:ea typeface="Arial"/>
              </a:rPr>
              <a:t>NEG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14"/>
          <p:cNvSpPr/>
          <p:nvPr/>
        </p:nvSpPr>
        <p:spPr>
          <a:xfrm flipH="1">
            <a:off x="7475400" y="4197240"/>
            <a:ext cx="1393920" cy="824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tem precauções de isolamento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15"/>
          <p:cNvSpPr/>
          <p:nvPr/>
        </p:nvSpPr>
        <p:spPr>
          <a:xfrm>
            <a:off x="5387040" y="5133960"/>
            <a:ext cx="216036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Elevada suspeição de D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16"/>
          <p:cNvSpPr/>
          <p:nvPr/>
        </p:nvSpPr>
        <p:spPr>
          <a:xfrm>
            <a:off x="5386320" y="5562720"/>
            <a:ext cx="2308320" cy="1371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Fatores de risco para DAC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Antibioterapia prévia (3 me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Cirurgia intest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Quimiotera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Hospitalização prolong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Idade &gt; 65 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17"/>
          <p:cNvSpPr/>
          <p:nvPr/>
        </p:nvSpPr>
        <p:spPr>
          <a:xfrm>
            <a:off x="345960" y="3621240"/>
            <a:ext cx="3240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ter precauções de isolamento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ixaDeTexto 18"/>
          <p:cNvSpPr/>
          <p:nvPr/>
        </p:nvSpPr>
        <p:spPr>
          <a:xfrm>
            <a:off x="2435400" y="448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17"/>
          <p:cNvSpPr/>
          <p:nvPr/>
        </p:nvSpPr>
        <p:spPr>
          <a:xfrm>
            <a:off x="561960" y="4341960"/>
            <a:ext cx="3456000" cy="228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Quarto individual com casa de banho ou agrupamento de doentes confirma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Sinalizar a porta do quarto, com placa identificati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Luvas e bata para entrar no quar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Cumprir com as recomendações para a higiene das mã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Equipamento individualizado ou desinfectado entre doent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  <a:ea typeface="Arial"/>
              </a:rPr>
              <a:t>Manuseamento cuidadoso      de arrastadeiras para minimizar risco de disp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18"/>
          <p:cNvSpPr/>
          <p:nvPr/>
        </p:nvSpPr>
        <p:spPr>
          <a:xfrm>
            <a:off x="289080" y="6516720"/>
            <a:ext cx="25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Adaptado de: Public Health Dividion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onexão recta unidireccional 20"/>
          <p:cNvCxnSpPr/>
          <p:nvPr/>
        </p:nvCxnSpPr>
        <p:spPr>
          <a:xfrm flipH="1">
            <a:off x="4233600" y="1174680"/>
            <a:ext cx="2160" cy="2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exão recta unidireccional 25"/>
          <p:cNvCxnSpPr/>
          <p:nvPr/>
        </p:nvCxnSpPr>
        <p:spPr>
          <a:xfrm flipH="1">
            <a:off x="2361960" y="3405240"/>
            <a:ext cx="21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Conexão recta unidireccional 26"/>
          <p:cNvCxnSpPr/>
          <p:nvPr/>
        </p:nvCxnSpPr>
        <p:spPr>
          <a:xfrm flipH="1">
            <a:off x="2361960" y="2757240"/>
            <a:ext cx="21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Conexão recta unidireccional 27"/>
          <p:cNvCxnSpPr/>
          <p:nvPr/>
        </p:nvCxnSpPr>
        <p:spPr>
          <a:xfrm flipH="1">
            <a:off x="6538680" y="2757240"/>
            <a:ext cx="21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Conexão recta unidireccional 28"/>
          <p:cNvCxnSpPr/>
          <p:nvPr/>
        </p:nvCxnSpPr>
        <p:spPr>
          <a:xfrm flipH="1">
            <a:off x="6538680" y="3333600"/>
            <a:ext cx="21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Conexão recta unidireccional 29"/>
          <p:cNvCxnSpPr/>
          <p:nvPr/>
        </p:nvCxnSpPr>
        <p:spPr>
          <a:xfrm flipH="1">
            <a:off x="6538680" y="4054320"/>
            <a:ext cx="2160" cy="2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Conexão recta unidireccional 30"/>
          <p:cNvCxnSpPr/>
          <p:nvPr/>
        </p:nvCxnSpPr>
        <p:spPr>
          <a:xfrm>
            <a:off x="7114680" y="4486320"/>
            <a:ext cx="36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Conexão recta unidireccional 31"/>
          <p:cNvCxnSpPr/>
          <p:nvPr/>
        </p:nvCxnSpPr>
        <p:spPr>
          <a:xfrm flipH="1">
            <a:off x="6466680" y="470196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exão recta unidireccional 32"/>
          <p:cNvCxnSpPr>
            <a:stCxn id="167" idx="1"/>
          </p:cNvCxnSpPr>
          <p:nvPr/>
        </p:nvCxnSpPr>
        <p:spPr>
          <a:xfrm flipH="1">
            <a:off x="4090680" y="5271120"/>
            <a:ext cx="12960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CaixaDeTexto 43"/>
          <p:cNvSpPr/>
          <p:nvPr/>
        </p:nvSpPr>
        <p:spPr>
          <a:xfrm>
            <a:off x="3809880" y="3581280"/>
            <a:ext cx="1143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  <a:ea typeface="Arial"/>
              </a:rPr>
              <a:t>POSITIV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exão recta unidireccional 46"/>
          <p:cNvCxnSpPr/>
          <p:nvPr/>
        </p:nvCxnSpPr>
        <p:spPr>
          <a:xfrm flipH="1">
            <a:off x="4667040" y="1893600"/>
            <a:ext cx="21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exão recta unidireccional 47"/>
          <p:cNvCxnSpPr>
            <a:stCxn id="182" idx="1"/>
            <a:endCxn id="169" idx="3"/>
          </p:cNvCxnSpPr>
          <p:nvPr/>
        </p:nvCxnSpPr>
        <p:spPr>
          <a:xfrm flipH="1">
            <a:off x="3585600" y="3751200"/>
            <a:ext cx="224280" cy="102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exão recta unidireccional 48"/>
          <p:cNvCxnSpPr>
            <a:stCxn id="164" idx="1"/>
            <a:endCxn id="182" idx="3"/>
          </p:cNvCxnSpPr>
          <p:nvPr/>
        </p:nvCxnSpPr>
        <p:spPr>
          <a:xfrm flipH="1" flipV="1">
            <a:off x="4952880" y="3751200"/>
            <a:ext cx="362520" cy="3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Conexão recta unidireccional 58"/>
          <p:cNvCxnSpPr>
            <a:endCxn id="171" idx="0"/>
          </p:cNvCxnSpPr>
          <p:nvPr/>
        </p:nvCxnSpPr>
        <p:spPr>
          <a:xfrm flipH="1">
            <a:off x="2288880" y="4053960"/>
            <a:ext cx="2160" cy="2894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aixaDeTexto 1"/>
          <p:cNvSpPr/>
          <p:nvPr/>
        </p:nvSpPr>
        <p:spPr>
          <a:xfrm>
            <a:off x="1643040" y="216000"/>
            <a:ext cx="51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Tratamento do primeiro e segundo episódios de DA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2"/>
          <p:cNvSpPr/>
          <p:nvPr/>
        </p:nvSpPr>
        <p:spPr>
          <a:xfrm>
            <a:off x="1295280" y="647640"/>
            <a:ext cx="72010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O tratamento da DACD deve ser iniciado com base na avaliação de sintomas e severidade da doença, tendo em consideração os fatores de risco individuais do do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3"/>
          <p:cNvSpPr/>
          <p:nvPr/>
        </p:nvSpPr>
        <p:spPr>
          <a:xfrm>
            <a:off x="3741840" y="1440000"/>
            <a:ext cx="52228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ssegurar a aplicação das medidas de prevenção e controlo de infeção assim que a diarreia tem inicio (não esperar pelo resultado do laboratór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Interromper tratamento antibiótico (não relacionado com DACD) em caso de suspe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exão recta unidireccional 5"/>
          <p:cNvCxnSpPr/>
          <p:nvPr/>
        </p:nvCxnSpPr>
        <p:spPr>
          <a:xfrm flipH="1">
            <a:off x="6587280" y="1152000"/>
            <a:ext cx="1080" cy="288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exão recta unidireccional 10"/>
          <p:cNvCxnSpPr/>
          <p:nvPr/>
        </p:nvCxnSpPr>
        <p:spPr>
          <a:xfrm flipH="1">
            <a:off x="2339280" y="1152360"/>
            <a:ext cx="1080" cy="12247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CaixaDeTexto 12"/>
          <p:cNvSpPr/>
          <p:nvPr/>
        </p:nvSpPr>
        <p:spPr>
          <a:xfrm>
            <a:off x="324000" y="2376360"/>
            <a:ext cx="4248000" cy="13716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Temperatura &gt; 38,5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Fatores de risco (hospitalização em UCI, imunossupres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suspeita de colite pseudomembranosa, megacolon toxico, ile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ilatação do colon &gt; 6 cm (imagiologia – Rx ou T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Leucócitos &gt; 15 cel/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reatinina &gt;1.5 x linha d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13"/>
          <p:cNvSpPr/>
          <p:nvPr/>
        </p:nvSpPr>
        <p:spPr>
          <a:xfrm>
            <a:off x="250920" y="4176720"/>
            <a:ext cx="3384360" cy="64152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oente com um ou sem 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etronidazol 400/500mg 3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Hidrat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14"/>
          <p:cNvSpPr/>
          <p:nvPr/>
        </p:nvSpPr>
        <p:spPr>
          <a:xfrm>
            <a:off x="5003640" y="2808360"/>
            <a:ext cx="3456000" cy="64152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Doente com dois ou mais critérios de severidade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ancomicina oral 125mg 4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Hidrat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15"/>
          <p:cNvSpPr/>
          <p:nvPr/>
        </p:nvSpPr>
        <p:spPr>
          <a:xfrm>
            <a:off x="179280" y="5256360"/>
            <a:ext cx="4464000" cy="13716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valiação diária do doente com doença suave ou moderada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onitorizar  eliminação intestinal e balanço hídric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igiar sinais e sintomas (leucócitos e hipoten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Na ausência de melhoria clinica 5 dias após inicio de Metronidazol, interrompe a inicia Vancomicina oral 125mg 4xid durante 10-14 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16"/>
          <p:cNvSpPr/>
          <p:nvPr/>
        </p:nvSpPr>
        <p:spPr>
          <a:xfrm>
            <a:off x="5076720" y="3960720"/>
            <a:ext cx="3456000" cy="22842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Avaliação diária do doente com doença severa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Monitorizar  eliminação intestinal e balanço hídric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Vigiar sinais e sintomas (leucócitos e hipotensã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onsulta de cirurgião, gastrenterologista e microbiolog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Imagiologia abdominal (Rx ou TAC); considerar colite pseudomembranosa, megacolon toxico, ileos  ou perfu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Se deteção de íleos, associa Metronidazol 500mg EV 3xid até resolução do íle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Conexão recta unidireccional 17"/>
          <p:cNvCxnSpPr/>
          <p:nvPr/>
        </p:nvCxnSpPr>
        <p:spPr>
          <a:xfrm flipH="1">
            <a:off x="1475640" y="3816000"/>
            <a:ext cx="1080" cy="2894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Conexão recta unidireccional 18"/>
          <p:cNvCxnSpPr/>
          <p:nvPr/>
        </p:nvCxnSpPr>
        <p:spPr>
          <a:xfrm flipH="1">
            <a:off x="6875280" y="3529080"/>
            <a:ext cx="2160" cy="288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Conexão recta unidireccional 19"/>
          <p:cNvCxnSpPr/>
          <p:nvPr/>
        </p:nvCxnSpPr>
        <p:spPr>
          <a:xfrm>
            <a:off x="4642920" y="2952720"/>
            <a:ext cx="28836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exão recta unidireccional 20"/>
          <p:cNvCxnSpPr/>
          <p:nvPr/>
        </p:nvCxnSpPr>
        <p:spPr>
          <a:xfrm flipH="1">
            <a:off x="1618920" y="4897440"/>
            <a:ext cx="2160" cy="288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752120"/>
            <a:ext cx="8458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ésar, Artur J. Fernandes: “</a:t>
            </a:r>
            <a:r>
              <a:rPr b="1" i="1" lang="pt-PT" sz="2000" spc="-1" strike="noStrike">
                <a:solidFill>
                  <a:srgbClr val="000000"/>
                </a:solidFill>
                <a:latin typeface="Open Sans"/>
              </a:rPr>
              <a:t>Clostridium difficile: prevenção e controlo”.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Faculdade Medicina Universidade do Porto. Mestrado Integrado em medicina 2009-2010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mith Philip W. et al: “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SHEA/APIC Guideline: Infection prevention and control </a:t>
            </a:r>
            <a:r>
              <a:rPr b="0" i="1" lang="en-US" sz="2000" spc="-1" strike="noStrike">
                <a:solidFill>
                  <a:srgbClr val="000000"/>
                </a:solidFill>
                <a:latin typeface="Open Sans"/>
              </a:rPr>
              <a:t>in the long-term care facility</a:t>
            </a:r>
            <a:r>
              <a:rPr b="0" lang="en-US" sz="2000" spc="-1" strike="noStrike">
                <a:solidFill>
                  <a:srgbClr val="000000"/>
                </a:solidFill>
                <a:latin typeface="Open Sans"/>
              </a:rPr>
              <a:t>”. 2008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ângulo 2"/>
          <p:cNvSpPr/>
          <p:nvPr/>
        </p:nvSpPr>
        <p:spPr>
          <a:xfrm>
            <a:off x="1192320" y="2778120"/>
            <a:ext cx="6834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84807"/>
                </a:solidFill>
                <a:latin typeface="Open Sans"/>
              </a:rPr>
              <a:t>Obrigada pela Atençã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Open Sans"/>
              </a:rPr>
              <a:t>Fatores de risco para o desenvolvimento da doenç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447920"/>
            <a:ext cx="8382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tibioticoterapia prévia nos 3 meses anteriores ao início da sintomatologi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ade ≥ 65 anos;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(os antibióticos, em geral, provocam alteração da flora intestinal, favorecendo o desenvolvimento do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. Os antibióticos mais frequentemente implicados são ampicilina, amoxicilina, cefalosporinas de 3ª e 4ª geração, fluoroquinolonas e clindamicina)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ternamento prolongado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orbilidades importantes associad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itostáticos (efeitos imunossupressivos da neutropenia)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irurgia gastrintestinal ou manipulação do aparelho gastrintestinal, incluindo sonda de nutrição entéric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so de inibidores da bomba de protões (suprimem o suco gástrico e podem mascarar a severidade da doença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Via de transmissão e epidemiologia da colonização e infeçã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142640"/>
            <a:ext cx="81536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 contacto (direto e indireto)       principal via de transmissão do </a:t>
            </a:r>
            <a:r>
              <a:rPr b="0" i="1" lang="pt-PT" sz="1700" spc="-1" strike="noStrike">
                <a:solidFill>
                  <a:srgbClr val="000000"/>
                </a:solidFill>
                <a:latin typeface="Open Sans"/>
              </a:rPr>
              <a:t>CD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Resulta da disseminação pessoa a pessoa, por via fecal-oral, + em doentes internados. 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Risco de colonização &gt; cumulativamente, em cada dia de internamento com risco de exposição aos esporo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s doentes sintomáticos com CD     principal fonte de contaminação do ambiente nas U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Os sanitários, arrastadeiras, termómetros retais e o ambiente dos doentes com CD e as superfícies + tocadas na unidade do doente ou no WC), podem estar contaminados  se não forem devidamente higienizados entre doentes.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Open Sans"/>
              </a:rPr>
              <a:t>Mãos dos profissionais de saúde – contaminação transitoria com os esporos          disseminação para outros doentes ou superfícies. </a:t>
            </a: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lnSpc>
                <a:spcPct val="14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Right Arrow 5"/>
          <p:cNvSpPr/>
          <p:nvPr/>
        </p:nvSpPr>
        <p:spPr>
          <a:xfrm>
            <a:off x="3962520" y="121932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ight Arrow 6"/>
          <p:cNvSpPr/>
          <p:nvPr/>
        </p:nvSpPr>
        <p:spPr>
          <a:xfrm>
            <a:off x="4719600" y="331164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Vigilância epidemiológica (VE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295280"/>
            <a:ext cx="838188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 VE é fortemente recomendada como ferramenta de monitorização, prevenção e controlo da DACD, permitindo identificar o aumento da incidência e/ou a severidade numa fase precoce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Open Sans"/>
              </a:rPr>
              <a:t>Definição padrão para identificação dos casos (B);</a:t>
            </a:r>
            <a:br>
              <a:rPr sz="5400"/>
            </a:br>
            <a:endParaRPr b="0" lang="en-US" sz="25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Diarreia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– dejeções de fezes aquosas/pastosas, não moldadas, em N.º &gt; ao habitual para o doente, nas 24 horas ou num curto período de tempo, sem outra etiologia identificada ou sem administração de laxantes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Caso de DACD: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Presença de diarreia não atribuível a outra caus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e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nfirmação laboratorial de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toxina positiva (A/B) de </a:t>
            </a:r>
            <a:r>
              <a:rPr b="0" i="1" lang="pt-PT" sz="24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, ou visualização de pseudomembranas através de colonoscopia ou diagnóstico histológico de colite pseudomembranosa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Critérios de definição de DACD - categorização baseada na data de admissão na unidade de saúde e data de colheita de produ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da comunida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≤ 3 dias de internamento; sem internamento prévio nas últimas 12 seman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0840" indent="-265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axa – nº de casos ano para a população em risc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associada aos cuidados de saúde da unidade de saú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≤ 4 semanas após a alt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nosocomial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&gt; 3 dias de internamento até alta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0840" indent="-26568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axa - nº de casos por 10.000 dias de internament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ACD indeterminada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– DACD em pessoa com 4 e 12 semanas após a alt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Considerar novo caso se não houver episódio identificado nas últimas 8 semanas;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Considerar caso recorrente se houver episódio identificado nas últimas 2-8 semana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anifestações clínicas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961920"/>
            <a:ext cx="830556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Os casos de infeção pelo </a:t>
            </a:r>
            <a:r>
              <a:rPr b="1" i="1" lang="pt-PT" sz="3200" spc="-1" strike="noStrike">
                <a:solidFill>
                  <a:srgbClr val="000000"/>
                </a:solidFill>
                <a:latin typeface="Open Sans"/>
              </a:rPr>
              <a:t>Clostridium difficile</a:t>
            </a: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 variam entre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ortadores assintomáticos,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oentes com diarreia ligeira ou moderad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 doença fatal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oentes suspeitos: doentes hospitalizados que desenvolvem diarreia ou qualquer pessoa na comunidade que desenvolve diarreia após a toma de antibióticos ou associada a terapêutica imunossupressora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84400" indent="-2844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5:39:34Z</dcterms:modified>
  <cp:revision>280</cp:revision>
  <dc:subject/>
  <dc:title>Diapositivo 1</dc:title>
</cp:coreProperties>
</file>