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9F4A-9A57-4784-ADEB-95401F2CF62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4367-1E24-484C-89BE-54968AAB96A4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D615-DFC1-4ED4-A93F-87772C00061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B26-EFDD-420C-BE3C-D6147C2C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3343-6123-4779-8A17-0DDBE081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061-1596-4BB5-8D7E-91CB74DE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80D-C28D-4352-B23F-78D266A2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2D0B-EE67-4424-B262-2B24B6B0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DAD2-EEB3-499A-A5F4-693A9FFE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80E7-EB26-451C-99CD-EE73FC82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F5E6-85C9-4BA6-AED3-850A701C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6729-D1F9-43CF-8322-2AABDD87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9B6D-C68F-4E2F-9CF1-1424B6C8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036E-BAA2-49C9-BEB9-93B9CD73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D8D-096F-4DBF-BF62-F223933A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C58B-4F0F-4E7E-A274-9F924E65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34B6-32D3-4E35-B7F5-A4E45CCD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38B6-07B4-443A-8090-8A8BF6BD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7123-E6DF-447D-A557-50B0091F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7AD6-C604-470A-9697-FA9F1BDC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695-4C27-40DA-B009-ADAE2494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3E2-1552-44DA-95D8-4D320D3E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D37-0990-4657-9846-98DE9FF3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424-4402-42B1-A3D5-F2225328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C6A-375D-40BB-AA82-9D0F2EC9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334-DB21-41DE-BEED-C7EBD388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115C-9C8C-4ED6-87B1-B5411952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6D31-24DA-4EE0-A765-362BDB6F3EBC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m 6" descr="7542_DGS_powerpoint-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56DC-4058-4693-94E4-2022FE003DD8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m 6" descr="7542_DGS_powerpoint-0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ppcira@dgs.pt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pic.org/" TargetMode="External"/><Relationship Id="rId2" Type="http://schemas.openxmlformats.org/officeDocument/2006/relationships/hyperlink" Target="http://www.infectiousdisease.louisiana.dhh.gov/" TargetMode="External"/><Relationship Id="rId3" Type="http://schemas.openxmlformats.org/officeDocument/2006/relationships/hyperlink" Target="http://jama.ama-assn.org/cgi/content/full/299/21/2513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23960" y="1324080"/>
            <a:ext cx="7150320" cy="24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PREVENÇÃO E CONTROLO de </a:t>
            </a: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Acinetobacter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17375e"/>
                </a:solidFill>
                <a:latin typeface="Open Sans"/>
              </a:rPr>
              <a:t>Formação do PPCIRA sobre PBCI/PBVT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17375e"/>
                </a:solidFill>
                <a:latin typeface="Open Sans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3" name="Imagem 4" descr="Logo_Departamento da Qualidade na Saúde.jpg"/>
          <p:cNvPicPr/>
          <p:nvPr/>
        </p:nvPicPr>
        <p:blipFill>
          <a:blip r:embed="rId1"/>
          <a:stretch/>
        </p:blipFill>
        <p:spPr>
          <a:xfrm>
            <a:off x="6388200" y="0"/>
            <a:ext cx="2755800" cy="1490760"/>
          </a:xfrm>
          <a:prstGeom prst="rect">
            <a:avLst/>
          </a:prstGeom>
          <a:ln w="0">
            <a:noFill/>
          </a:ln>
        </p:spPr>
      </p:pic>
      <p:sp>
        <p:nvSpPr>
          <p:cNvPr id="94" name="Rectângulo 4"/>
          <p:cNvSpPr/>
          <p:nvPr/>
        </p:nvSpPr>
        <p:spPr>
          <a:xfrm>
            <a:off x="2286000" y="573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ppcira@dgs.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Open Sans"/>
              </a:rPr>
              <a:t>Medidas de Prevenção</a:t>
            </a:r>
            <a:endParaRPr b="0" lang="en-US" sz="3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520" y="1066320"/>
            <a:ext cx="822960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Redução da potencial transmissão do microrganismo entre doentes</a:t>
            </a: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Lavagem correcta das mãos por todos os profissionais (médico, enfermeiro, assist. operacionais, outros técnicos) antes e após qualquer contacto com o utente.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Utilizar SABA </a:t>
            </a:r>
            <a:r>
              <a:rPr b="0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SEMPRE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que haja contacto com o utente </a:t>
            </a:r>
            <a:r>
              <a:rPr b="0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DESDE QUE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não haja contaminação com matéria orgânica (p. ex. medição da temperatura, da tensão arterial...)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Utilização de 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luvas apenas quando necessário (não dispensa a lavagem prévia das mãos), sempre que exista a possibilidade de contaminação com produtos orgânicos. Após o contacto com o utente ou com material contaminado retirá-las imediatamente, devendo as mãos ser novamente lavadas.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PROCEDIMENTOS</a:t>
            </a:r>
            <a:r>
              <a:rPr b="1" lang="pt-PT" sz="44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218960"/>
            <a:ext cx="79250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Durante os cuidados ao utente evitar a transferência de microrganismos de locais colonizados para locais susceptíveis de infecção (por exemplo do períneo para o aparelho respiratório; do aparelho respiratório para feridas ou cateteres vasculares)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Utilização de vestuário protector (bata descartável ou avental) sempre que se prestem cuidados ao utente. Este vestuário tem de ser obrigatoriamente impermeável sempre que se manipulem produtos líquidos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PROCEDIMENTOS</a:t>
            </a:r>
            <a:r>
              <a:rPr b="1" lang="pt-PT" sz="44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1218960"/>
            <a:ext cx="79250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Sendo o cumprimento escrupuloso de técnica asséptica uma norma básica de prevenção da infecção, reforça-se a sua necessidade quando se realizam procedimentos invasivos nestes utentes.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- Cumprimento rigoroso das normas de prevenção da infecção respiratória nosocomial.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Atenção particular no que se refere à aspiração de secreções, pelo risco acrescido deste procedimento contribuir para a transmissão cruzada dos microrganismos.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PROCEDIMENTOS</a:t>
            </a:r>
            <a:r>
              <a:rPr b="1" lang="pt-PT" sz="44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90360" y="1218960"/>
            <a:ext cx="75438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Todos os produtos líquidos necessários aos cuidados ao utente devem ser de uso exclusivo deste e os frascos devem permanecer fechados.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Existência junto da cama do utente de recipiente fechado, para colocação de todo o vestuário usado que é retirado imediatamente após a prestação dos cuidados.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s roupas e o restante material utilizados no utente, ao serem removidos, têm de ser colocados em contentores específicos que devem encontrar-se junto à sua cama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Evitar movimentos bruscos com este material (particular-mente com as roupas) a fim de limitar a disseminação dos microrganismos no ambiente 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PROCEDIMENTOS</a:t>
            </a:r>
            <a:r>
              <a:rPr b="1" lang="pt-PT" sz="44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360" y="1218960"/>
            <a:ext cx="75438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1.º          Individualização dos materiais (o + possível)!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Todo o material de uso múltiplo sempre que possível deverá ser descontaminado mecanicamente (máquina)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vitar a descontaminação manual pois é factor importante de dispersão dos microrganismos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O despejo de líquidos potencialmente contaminados (p. ex. água do banho, urina, líquidos de drenagem, etc.)  devem ser despejados cuidadosa e lentamente           a evitar a formação de salpicos e aerossóis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Não despejar bacias de higiene nos lavatórios das mãos!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8" name="Right Arrow 3"/>
          <p:cNvSpPr/>
          <p:nvPr/>
        </p:nvSpPr>
        <p:spPr>
          <a:xfrm>
            <a:off x="1828800" y="17524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ight Arrow 4"/>
          <p:cNvSpPr/>
          <p:nvPr/>
        </p:nvSpPr>
        <p:spPr>
          <a:xfrm>
            <a:off x="5562720" y="502920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Open Sans"/>
              </a:rPr>
              <a:t>VISITAS 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360" y="1295280"/>
            <a:ext cx="75438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s visitas devem ser informadas e formadas no sentido de compreenderem que </a:t>
            </a: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só devem contactar </a:t>
            </a:r>
            <a:r>
              <a:rPr b="1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fisicamente com o doente que acompanham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Devem solicitar a presença de um elemento da equipa do serviço, sempre que solicitado apoio por parte de outros utentes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Devem ser instruídas da necessidade de higienizar</a:t>
            </a: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 as mãos antes e após o contacto com o doente (sempre que possível acompanhadas ao local onde o podem realizar)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Redução das condições de eclosão e manutenção de MMR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Utilização judiciosa dos antibióticos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Retirar dispositivos invasivos (cateteres vasculares, algaliação, etc.) logo que os utentes não necessitem dos mesmos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Utilização de material de uso exclusivo para estes doentes: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- Termómetro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- Esfigmomanómetro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- Estetoscópio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Limpeza da unidade: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Colunas, monitores e restante equipamento que constituem a unidade do doente devem ser lavados sempre que conspurcados. Desinfectar diariamente com álcool a 70 % vol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Open Sans"/>
              </a:rPr>
              <a:t>Responsabilidade pela implementação das medidas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05120"/>
            <a:ext cx="78487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Compete aos chefes hierárquicos dos diferentes grupos profissionais a responsabilidade de divulgar as recomendações por todos os grupos profissionais e assegurar o cumprimento rigoroso das presentes recomendações.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Compete a cada profissional de saúde cumprir as recomendações na íntegra!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Surtos A. baumannii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676160"/>
            <a:ext cx="784872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Envolvem muitas vezes a contaminação ambiental de materiais, como: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quipamentos de aspiração,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ventiladores,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carrinhos de chuveiro,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lavatórios,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bombas de infusão,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travesseiros e colchões,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bedrails,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pias,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quipamento de reanimação,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mesas de cabeceira,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carrinhos de aço inoxidável..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Medidas globais  de prevenção e controlo do Acinetobacter “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040" y="1523520"/>
            <a:ext cx="762012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Medidas “agressivas” num surto: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Coorte de utentes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Coorte de profissionais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Não receber os utentes por um período de tempo/encerrar a Unidade???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Limpeza/desinfecção “hiper-agressiva” da unidade!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Revisão do processamento dos materiais de terapia respiratória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Promoção da higiene das mãos!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Implementação das Precauções globais de contacto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5"/>
          <p:cNvSpPr/>
          <p:nvPr/>
        </p:nvSpPr>
        <p:spPr>
          <a:xfrm>
            <a:off x="4556160" y="1916280"/>
            <a:ext cx="198108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Calibri"/>
              </a:rPr>
              <a:t>G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H="1">
            <a:off x="4288680" y="3548160"/>
            <a:ext cx="2514600" cy="761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Calibri"/>
              </a:rPr>
              <a:t>Espec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aixaDeTexto 7"/>
          <p:cNvSpPr/>
          <p:nvPr/>
        </p:nvSpPr>
        <p:spPr>
          <a:xfrm>
            <a:off x="1066680" y="2438280"/>
            <a:ext cx="77724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Abordar as medidas básicas de prevenção da infecção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i="1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Acinetobacter s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ixaDeTexto 8"/>
          <p:cNvSpPr/>
          <p:nvPr/>
        </p:nvSpPr>
        <p:spPr>
          <a:xfrm>
            <a:off x="990720" y="4309920"/>
            <a:ext cx="7848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Consolidar conhecimentos sobre este microrganismo “alert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Familiar os formandos com as medidas básicas de prevenção da transmissão cruzada deste microrganis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ângulo arredondado 10"/>
          <p:cNvSpPr/>
          <p:nvPr/>
        </p:nvSpPr>
        <p:spPr>
          <a:xfrm>
            <a:off x="2057400" y="609480"/>
            <a:ext cx="3124080" cy="533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ffffff"/>
                </a:solidFill>
                <a:latin typeface="Calibri"/>
              </a:rPr>
              <a:t>OBJECTIV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Referências Bibliográfica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76520"/>
            <a:ext cx="81532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 Narrow"/>
              </a:rPr>
              <a:t>APIC: “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Guide to the Elimination of </a:t>
            </a:r>
            <a:r>
              <a:rPr b="1" i="1" lang="pt-PT" sz="1600" spc="-1" strike="noStrike">
                <a:solidFill>
                  <a:srgbClr val="000000"/>
                </a:solidFill>
                <a:latin typeface="Arial Narrow"/>
              </a:rPr>
              <a:t>Multidrug-resistant Acinetobacter baumannii Transmission in Healthcare Settings</a:t>
            </a:r>
            <a:r>
              <a:rPr b="1" lang="pt-PT" sz="1600" spc="-1" strike="noStrike">
                <a:solidFill>
                  <a:srgbClr val="000000"/>
                </a:solidFill>
                <a:latin typeface="Arial Narrow"/>
              </a:rPr>
              <a:t>”.  An EPIC Guide, 2010. </a:t>
            </a:r>
            <a:r>
              <a:rPr b="1" lang="pt-PT" sz="16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apic.org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 Narrow"/>
              </a:rPr>
              <a:t>Hospital de Santa Maria: “</a:t>
            </a:r>
            <a:r>
              <a:rPr b="1" i="1" lang="pt-PT" sz="1600" spc="-1" strike="noStrike">
                <a:solidFill>
                  <a:srgbClr val="000000"/>
                </a:solidFill>
                <a:latin typeface="Arial Narrow"/>
              </a:rPr>
              <a:t>PROFILAXIA DA INFECÇÃO CRUZADA POR  ACINETOBACTER </a:t>
            </a:r>
            <a:r>
              <a:rPr b="1" lang="pt-PT" sz="1600" spc="-1" strike="noStrike">
                <a:solidFill>
                  <a:srgbClr val="000000"/>
                </a:solidFill>
                <a:latin typeface="Arial Narrow"/>
              </a:rPr>
              <a:t>sp.”. </a:t>
            </a:r>
            <a:r>
              <a:rPr b="0" lang="pt-PT" sz="1600" spc="-1" strike="noStrike">
                <a:solidFill>
                  <a:srgbClr val="000000"/>
                </a:solidFill>
                <a:latin typeface="Arial Narrow"/>
              </a:rPr>
              <a:t>NORMA n.º 11/2004.  </a:t>
            </a:r>
            <a:r>
              <a:rPr b="1" lang="pt-PT" sz="1600" spc="-1" strike="noStrike">
                <a:solidFill>
                  <a:srgbClr val="000000"/>
                </a:solidFill>
                <a:latin typeface="Arial Narrow"/>
              </a:rPr>
              <a:t>CCI do HSM. 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 Narrow"/>
              </a:rPr>
              <a:t>Infectious Disease Epidemiology Section: “</a:t>
            </a:r>
            <a:r>
              <a:rPr b="1" i="1" lang="pt-PT" sz="1600" spc="-1" strike="noStrike">
                <a:solidFill>
                  <a:srgbClr val="000000"/>
                </a:solidFill>
                <a:latin typeface="Arial Narrow"/>
              </a:rPr>
              <a:t>ACINETOBACTER”</a:t>
            </a:r>
            <a:r>
              <a:rPr b="1" lang="pt-PT" sz="16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ffice of Public Health, Louisiana Dept of Health &amp; Hospitals. 2008.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infectiousdisease.louisiana.dhh.gov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 Narrow"/>
              </a:rPr>
              <a:t>Maragakis LL, Tucker MG, Miller RG, Carroll KC, </a:t>
            </a:r>
            <a:r>
              <a:rPr b="0" i="1" lang="pt-PT" sz="1600" spc="-1" strike="noStrike">
                <a:solidFill>
                  <a:srgbClr val="000000"/>
                </a:solidFill>
                <a:latin typeface="Arial Narrow"/>
              </a:rPr>
              <a:t>et al</a:t>
            </a:r>
            <a:r>
              <a:rPr b="1" i="1" lang="pt-PT" sz="1600" spc="-1" strike="noStrike">
                <a:solidFill>
                  <a:srgbClr val="000000"/>
                </a:solidFill>
                <a:latin typeface="Arial Narrow"/>
              </a:rPr>
              <a:t>.: “Incidence and prevalence of multidrug-resistant Acinetobacter </a:t>
            </a:r>
            <a:r>
              <a:rPr b="1" lang="pt-PT" sz="1600" spc="-1" strike="noStrike">
                <a:solidFill>
                  <a:srgbClr val="000000"/>
                </a:solidFill>
                <a:latin typeface="Arial Narrow"/>
              </a:rPr>
              <a:t>using targeted active surveillance cultures</a:t>
            </a:r>
            <a:r>
              <a:rPr b="0" lang="pt-PT" sz="1600" spc="-1" strike="noStrike">
                <a:solidFill>
                  <a:srgbClr val="000000"/>
                </a:solidFill>
                <a:latin typeface="Arial Narrow"/>
              </a:rPr>
              <a:t>”. JAMA. 2008 Jun 4;299(21):2513–2514.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 Narrow"/>
                <a:hlinkClick r:id="rId3"/>
              </a:rPr>
              <a:t>http://jama.ama-assn.org/cgi/content/full/299/21/2513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ichards C, Lewis D.: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“Infections in Long Term Care Facilities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.” Hospital Infections. Bennett &amp; Brachman. W.Jarvis Editor. 5th ed. Wolters Kluwer/ Lippincott Williams &amp; Wilkins. Baltimore. 2007. Chapter 28:476.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Rectângulo 3" descr=""/>
          <p:cNvPicPr/>
          <p:nvPr/>
        </p:nvPicPr>
        <p:blipFill>
          <a:blip r:embed="rId1"/>
          <a:stretch/>
        </p:blipFill>
        <p:spPr>
          <a:xfrm>
            <a:off x="2023920" y="3303720"/>
            <a:ext cx="62913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ACINETOBACTER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1295280"/>
            <a:ext cx="838224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Microrganismo comensal, de baixa virulência     existe no homem saudável e no ambiente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8520" indent="-308520" algn="just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Pertence ao grupo de bactérias que, quando submetidos a pressão selectiva, adquirem facilmente resistência a múltiplos antibióticos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8520" indent="-308520" algn="just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 colonização humana é frequente na pele e no intestino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8520" indent="-308520" algn="just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São factores de risco conhecidos para a colonização e/ou infecção:  utentes hospitalizados; terapêutica antibiótica prévia; os procedimentos invasivos e a permanência em UCI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2" name="Right Arrow 3"/>
          <p:cNvSpPr/>
          <p:nvPr/>
        </p:nvSpPr>
        <p:spPr>
          <a:xfrm>
            <a:off x="6172200" y="160020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523520"/>
            <a:ext cx="784872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MDR 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Acinetobacter baumannii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(MDR Ab):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Ac. baumannii </a:t>
            </a:r>
            <a:r>
              <a:rPr b="0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com multirresistência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a mais de dois das seguintes cinco classes de antibiótico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Cefalosporinas antipseudomonas (3.ª e 4.ª gerações - ceftazidima ou cefepime...)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Quinolona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carbapenemos antipseudomonas (imipenem ou meropenem),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mpicilina / sulbactam, fluoroquinolonas (ciprofloxacina / levofloxacina ),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e aminoglicosídeos (gentamicina, tobramicina, amicacina ).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Acinetobacter baumannii </a:t>
            </a:r>
            <a:r>
              <a:rPr b="0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pan-resistente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: 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A. baumannii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com resistência antimicrobiana adicional em todas as classes de antibióticos, além da resistência à polimixina e / ou colistina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5" name="Down Arrow 3"/>
          <p:cNvSpPr/>
          <p:nvPr/>
        </p:nvSpPr>
        <p:spPr>
          <a:xfrm>
            <a:off x="3124080" y="1905120"/>
            <a:ext cx="457200" cy="53316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160" y="1905120"/>
            <a:ext cx="80010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Endemia: Uma taxa de referência estabelecida pela vigilância contínua da frequência normal de um microrganismo em infecção, ou doença num dado contexto.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Epidemia: Uma &gt; incidência do que o normal de um microrganismo em infecção, ou doença, numa população definida, num determinado período de tempo.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Sobrevivência do </a:t>
            </a:r>
            <a:r>
              <a:rPr b="1" i="1" lang="pt-PT" sz="2800" spc="-1" strike="noStrike">
                <a:solidFill>
                  <a:srgbClr val="000000"/>
                </a:solidFill>
                <a:latin typeface="Open Sans"/>
              </a:rPr>
              <a:t>Acinetobacter</a:t>
            </a: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 no ambiente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447920"/>
            <a:ext cx="84582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Acinetobacter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é capaz de sobreviver por longos períodos de tempo em superfícies inanimadas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291600" indent="-291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Esta sobrevivência prolongada no ambiente, juntamente com a resistência intrínseca a múltiplos antimicrobianos, a capacidade de colonização e transmissão por contacto (mãos, instrumentos, equipamentos) são alguns dos factres desafiadores na prevenção e controlo do 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Acinetobacter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291600" indent="-291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Se ocorre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surto, e / ou quando Acinetobacter sobrevive devido à limpeza inadequada, pode tornar-se endémico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291600" indent="-291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É preciso planear a erradicação de modo a ser bem sucedida!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291600" indent="-291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Identificar uma fonte de surto pode exigir extensa investigação, quando a fonte não é óbvia.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291600" indent="-291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Em cerca de 50% dos surtos relatados, a fonte não foi identificada!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291600" indent="-2916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567320" y="0"/>
            <a:ext cx="9360" cy="85763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-209520" y="-119160"/>
            <a:ext cx="9563040" cy="709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ACINETOBACTER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23520"/>
            <a:ext cx="792504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Nas US a transmissão do </a:t>
            </a:r>
            <a:r>
              <a:rPr b="0" i="1" lang="pt-PT" sz="2000" spc="-1" strike="noStrike">
                <a:solidFill>
                  <a:srgbClr val="000000"/>
                </a:solidFill>
                <a:latin typeface="Open Sans"/>
              </a:rPr>
              <a:t>Acinetobacter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é mais comum através da pele, fluidos corporais, equipamento e ambiente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Transmissão directa pode ocorrer quando o Acinetobacter é transferido de uma pessoa colonizada/infectada com este microrganismo, para outra pessoa, sem que haja um objecto ou fonte intermediária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Transmissão indirecta é a transferência de um agente infeccioso através de um objecto contaminado intermediário ou através de uma pessoa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A via &gt; relevante é por contacto, sendo o veículo principal as mãos dos profissionais!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Open Sans"/>
              </a:rPr>
              <a:t>Medidas de Prevenção</a:t>
            </a:r>
            <a:endParaRPr b="0" lang="en-US" sz="3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7720" y="990720"/>
            <a:ext cx="769644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Quarto individual: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Não é obrigatório, mas sempre que possível o utente deve ser colocado num quarto individual            permite mais facilmente que todo o pessoal interiorize que se trata de um doente reservatório desta estirpe, permitindo um maior rigor no cumprimento das regras de CI.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Quando não é possível quarto individual: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colocar os utentes infectados e/ou colonizados numa extremidade da unidade de internamento que não seja ponto de passagem frequente, minimizando a possibilidade de contaminar por contacto as batas ou vestuário do pessoal.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Se há mais do que 1-2 casos             isolamento de coorte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6" name="Right Arrow 3"/>
          <p:cNvSpPr/>
          <p:nvPr/>
        </p:nvSpPr>
        <p:spPr>
          <a:xfrm>
            <a:off x="5029200" y="2438280"/>
            <a:ext cx="6858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ight Arrow 4"/>
          <p:cNvSpPr/>
          <p:nvPr/>
        </p:nvSpPr>
        <p:spPr>
          <a:xfrm>
            <a:off x="4419720" y="6248520"/>
            <a:ext cx="761760" cy="3045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16:07:29Z</dcterms:created>
  <dc:creator>Alexandra Figueiredo</dc:creator>
  <dc:description/>
  <dc:language>en-US</dc:language>
  <cp:lastModifiedBy>Goreti</cp:lastModifiedBy>
  <dcterms:modified xsi:type="dcterms:W3CDTF">2015-05-03T16:32:24Z</dcterms:modified>
  <cp:revision>283</cp:revision>
  <dc:subject/>
  <dc:title>Diapositivo 1</dc:title>
</cp:coreProperties>
</file>