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en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FB43-09B7-4F6F-8B3B-DCE390B79F36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FD89-F5D6-468A-8144-0D134F37FD57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2459-9B30-4D36-B4C9-D762BA3C9556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D09A-5686-4281-9868-E919DBD7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9135-63BF-4F68-A859-B2B6DFAB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A857-6C0B-4607-BC87-37E63E8E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4277-C490-4F07-A6B6-DE18A8FB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7A42-3680-40FD-9D34-8A14D4EB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4A94-B03E-421A-82D1-CCB31B47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B9EB-61D8-4EC7-8BC4-C1726D61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91F5-5D76-4D3C-92EB-DAB353C7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CEEF-7BD7-41C4-B72E-4E573867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5DF9-22D2-4EE3-BF79-679C1969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AF44-F4FA-462A-92D5-38FEA569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52FD-69B0-40AB-B466-80C3F394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7F1F-4660-4A62-86FC-EF9E91E4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9EE3-0CDE-4F8D-9BA0-6A1751CA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BDB6-1251-4E5F-AB1F-7FB20D6C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F173-2655-4C02-9752-95E9ACCC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3E7A-4FF6-4E8D-9F53-C4660261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857C-D16B-4B54-BB62-29CBBE0A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9B1D-CD23-46E1-8C97-8A981B51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8ED9-A7E8-4126-B7C6-AEF146DF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6528-B932-4FB5-BC74-CD856E43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D3C7-4376-4161-8675-01CA5882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89F9-D500-4D6A-B144-F5E39859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60A7-1A60-4196-81DF-BDB8C59E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D9D9-DFB0-4CF6-8909-EBEE5ACA2C87}" type="slidenum">
              <a:rPr b="0" lang="pt-PT" sz="1200" spc="-1" strike="noStrike">
                <a:solidFill>
                  <a:srgbClr val="898989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m 6" descr="7542_DGS_powerpoint-0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E200-4178-4696-9B1C-53374B534A88}" type="slidenum">
              <a:rPr b="0" lang="pt-PT" sz="1200" spc="-1" strike="noStrike">
                <a:solidFill>
                  <a:srgbClr val="898989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m 6" descr="7542_DGS_powerpoint-0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ppcira@dgs.pt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t.wikipedia.org/wiki/Ficheiro:Clostridium_difficile_01.pn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18760" y="1355400"/>
            <a:ext cx="70390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PREVENÇÃO E CONTROLO DE </a:t>
            </a:r>
            <a:r>
              <a:rPr b="1" i="1" lang="pt-PT" sz="4400" spc="-1" strike="noStrike">
                <a:solidFill>
                  <a:srgbClr val="ff0000"/>
                </a:solidFill>
                <a:latin typeface="Open Sans"/>
              </a:rPr>
              <a:t>Clostridium difficile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17375e"/>
                </a:solidFill>
                <a:latin typeface="Open Sans"/>
              </a:rPr>
              <a:t>Formação do PPCIRA sobre PBCI/PBVT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17375e"/>
                </a:solidFill>
                <a:latin typeface="Open Sans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93" name="Imagem 4" descr="Logo_Departamento da Qualidade na Saúde.jpg"/>
          <p:cNvPicPr/>
          <p:nvPr/>
        </p:nvPicPr>
        <p:blipFill>
          <a:blip r:embed="rId1"/>
          <a:stretch/>
        </p:blipFill>
        <p:spPr>
          <a:xfrm>
            <a:off x="6388200" y="0"/>
            <a:ext cx="2755800" cy="1490760"/>
          </a:xfrm>
          <a:prstGeom prst="rect">
            <a:avLst/>
          </a:prstGeom>
          <a:ln w="0">
            <a:noFill/>
          </a:ln>
        </p:spPr>
      </p:pic>
      <p:sp>
        <p:nvSpPr>
          <p:cNvPr id="94" name="Rectângulo 4"/>
          <p:cNvSpPr/>
          <p:nvPr/>
        </p:nvSpPr>
        <p:spPr>
          <a:xfrm>
            <a:off x="2286000" y="5732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cira@dgs.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Sinais / Sintomas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599840"/>
            <a:ext cx="815328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Fezes com muco e sangue oculto;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05280" indent="-305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Febre (&gt; 38.5°C), perda de apetite, náuseas, cólicas e desconforto abdominal; leucocitose periférica (surge em +- 50% dos doentes) e hipoalbuminemia;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05280" indent="-305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Na doença severa:        íleo ou dilatação tóxica, com dor e distensão abdominal mas com diarreia mínima ou ausente: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05280" indent="-305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Complicações associadas:    desidratação, desiquilibro eletrolítico, hipoalbuminémia, megacólon tóxico, perfuração intestinal, hipotensão, falência renal, síndrome de resposta inflamatória sistémica, sépsis e morte.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9" name="Right Arrow 3"/>
          <p:cNvSpPr/>
          <p:nvPr/>
        </p:nvSpPr>
        <p:spPr>
          <a:xfrm>
            <a:off x="3657600" y="3352680"/>
            <a:ext cx="53352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ight Arrow 4"/>
          <p:cNvSpPr/>
          <p:nvPr/>
        </p:nvSpPr>
        <p:spPr>
          <a:xfrm>
            <a:off x="4648320" y="4419720"/>
            <a:ext cx="38088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28600" y="533520"/>
            <a:ext cx="861048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O diagnóstico precoce é essencial para prevenir e controlar o </a:t>
            </a:r>
            <a:r>
              <a:rPr b="0" i="1" lang="pt-PT" sz="1400" spc="-1" strike="noStrike">
                <a:solidFill>
                  <a:srgbClr val="000000"/>
                </a:solidFill>
                <a:latin typeface="Open Sans"/>
              </a:rPr>
              <a:t>CD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 nas US: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Na presença de clínica sugestiva, deverá ser solicitada a pesquisa de toxinas A e B de </a:t>
            </a:r>
            <a:r>
              <a:rPr b="0" i="1" lang="pt-PT" sz="1400" spc="-1" strike="noStrike">
                <a:solidFill>
                  <a:srgbClr val="000000"/>
                </a:solidFill>
                <a:latin typeface="Open Sans"/>
              </a:rPr>
              <a:t>CD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 em fezes não moldadas (B).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Nas situações em que se suspeite de íleos associado a DACD, o laboratório deve ser expressamente avisado disso para que a amostra não seja recusada;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O laboratório deverá dispor de teste que possua os melhores critérios de resultados em termos de sensibilidade, especificidade e valores preditivos positivo e negativo (B);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O teste para pesquisa das toxinas é clinicamente o mais importante porque permite obter resultados rapidamente, mas tem valor limitado pela sua reduzida sensibilidade (B).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Devem ser respeitadas as recomendações do laboratório para a conservação e transporte das amostras, já que as toxinas são lábeis à temperatura ambiente (podem desaparecer no intervalo de duas horas);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Se o primeiro resultado for negativo e existe uma forte suspeita clínica, enviar nova amostra 24 horas depois (B);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A pesquisa de toxina não deve ser requerida como meio de verificar a eficácia da terapêutica nem como teste de rastreio em doentes sem sinais e sintomas de DACD (B). 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Apenas se devem repetir os testes nos doentes, com identificação prévia de toxina positiva para </a:t>
            </a:r>
            <a:r>
              <a:rPr b="0" i="1" lang="pt-PT" sz="1400" spc="-1" strike="noStrike">
                <a:solidFill>
                  <a:srgbClr val="000000"/>
                </a:solidFill>
                <a:latin typeface="Open Sans"/>
              </a:rPr>
              <a:t>CD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, se houver suspeita de recorrência e tiverem sido excluídas outras possíveis causas para a diarreia (B);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Apesar da cultura de fezes não ser prática pela demora na obtenção de resultados, a sensibilidade e especificidade da cultura, seguida de identificação toxicológica, realizada por laboratório experiente permite servir de padrão para comparação de resultados com outros testes (B);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Na suspeita de íleos, megacolon tóxico ou colite pseudomembranosa sem diarreia, poderá haver necessidade de optar por outros procedimentos diagnósticos, como por exemplo, colonoscopia, contagem de leucócitos, creatinina sérica e exame imagiológico abdominal (B).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Medidas de Control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95280"/>
            <a:ext cx="815328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Educação dos profissionais de saúde sobre: mecanismos básicos de patogenicidade do </a:t>
            </a: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CD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, reservatórios potenciais, via de transmissão, contaminação do ambiente, descontaminação de superfícies e equipamentos, higiene das mãos e uso de EPI;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Profissionais e visitas devem usar luvas (A) e bata de proteção (B) para contacto físico com o doente ou superfícies da unidade do doente com DACD;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Os profissionais devem cumprir com a higiene das mãos (A). Está recomendada após o contacto com fezes, ou outras substâncias corporais, ou após qualquer potencial contaminação das mãos (contacto com o ambiente ou doente com DACD) e após a remoção do equipamento de proteção individual (B);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 SABA não é eficaz na remoção dos esporos, pelo que é necessária a higiene das mãos com água e sabão para prevenir a disseminação (B);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Instruir doentes e visitas para higienizar as mãos com água e sabão antes de comer, após utilizar os sanitários e quando entrar ou sair da US (B)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Medidas de Control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9480" y="1523520"/>
            <a:ext cx="792504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Colocar os doentes com DACD em quarto individual, com lavatório e casa de banho, e aplicar precauções de contacto (B). Se não houver quarto individual disponível, agrupar doentes (cohort), individualizando o equipamento de eliminação para cada doente (C)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Manter precauções de isolamento de contacto durante o período de diarreia e até 48 horas após regulação do trânsito intestinal (C)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O rastreio por rotina de portadores assintomáticos (doentes ou profissionais de saúde)  no âmbito do controlo de infeção, não é recomendado (A) e o tratamento de eventuais portadores assintomáticos  não é efetivo (B)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Medidas de Control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62120" y="1676160"/>
            <a:ext cx="77724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Quando o doente é transferido para outra US (incluindo lar de 3.ª idade e UCCI) é imperativa a partilha de informação sobre a DACD ou episódios prévios, de modo a permitir a organização dos cuidados necessários (B);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No contacto com cadáveres deverão cumprir-se os procedimentos aplicados aos doentes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A sujidade fecal em torno dos cadáveres deve ser limpa com água e detergente, seguida de desinfeção com hipoclorito de sódio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Devem ser cumpridas as precauções básicas de isolamento tanto no transporte como na casa mortuária (B)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Limpeza e desinfeção ambienta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0520" y="1295280"/>
            <a:ext cx="853452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A identificação e remoção de fontes ambientais de </a:t>
            </a:r>
            <a:r>
              <a:rPr b="0" i="1" lang="pt-PT" sz="2000" spc="-1" strike="noStrike">
                <a:solidFill>
                  <a:srgbClr val="000000"/>
                </a:solidFill>
                <a:latin typeface="Open Sans"/>
              </a:rPr>
              <a:t>C. difficile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 (incluindo a substituição de termómetros retais por termómetros de uso único) podem reduzir a incidência de DACD (B)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29040" indent="-3290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Limpar e desinfetar regularmente as unidades dos doentes com DACD (incluindo superfícies de contacto frequente: mesas, cadeiras, manípulos de porta, campainha, controlo de cama, interruptores (B)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29040" indent="-3290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Considerar o aumento de frequência de descontaminação das unidades dos doentes com diarreia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29040" indent="-3290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Em áreas com aumento das taxas de DACD, usar agentes de limpeza com cloro ou outros agentes esporicidas (B)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29040" indent="-3290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Limpeza e desinfeção ambienta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447920"/>
            <a:ext cx="81532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As superfícies visivelmente contaminadas com fezes devem ser limpas e desinfetadas o mais rapidamente possível (B)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1600" indent="-291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Após a alta do doente com DACD, a área deve ser limpa e desinfetada completamente (incluindo cortinas separadoras); (B). Pode haver necessidade de considerar o uso de vapor de peroxido de hidrogénio para uma total desinfeção de ambiente/equipamento em áreas de isolamento. (B)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1600" indent="-291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A pesquisa de </a:t>
            </a:r>
            <a:r>
              <a:rPr b="0" i="1" lang="pt-PT" sz="2000" spc="-1" strike="noStrike">
                <a:solidFill>
                  <a:srgbClr val="000000"/>
                </a:solidFill>
                <a:latin typeface="Open Sans"/>
              </a:rPr>
              <a:t>Clostridium difficile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 no ambiente, por rotina, não é recomendada (C)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1600" indent="-291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Na desinfeção, utilizar hipoclorito de sódio na concentração de 1000ppm de cloro (B)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1600" indent="-29160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Limpeza e desinfeção ambienta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371600"/>
            <a:ext cx="815328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Os equipamentos utilizados na descontaminação das áreas de doentes com DACD devem estar devidamente identificados e não devem ser utilizados noutros locais.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Individualizar equipamentos (por ex: termómetros, arrastadeiras, manga de pressão arterial, estetoscópio) e descontaminá-los após utilização (B)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Deve ser utilizado equipamento de proteção individual aquando do manuseamento de roupa suja e de resíduos.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A roupa e resíduos devem ser colocados em contentores fechados.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Proceder à higiene das mãos após a remoção do equipamento de proteção.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Restrições ao uso de antibióticos </a:t>
            </a:r>
            <a:br>
              <a:rPr sz="6000"/>
            </a:b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6320" y="1218960"/>
            <a:ext cx="76964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Interromper qualquer antibiótico (não relacionado com o tratamento da DACD) em doente com DACD logo que possível (A);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284400" indent="-2844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Rever a frequência, duração e tipo de terapêutica AB, evitar o uso de agentes de elevado risco (ex. cefalosporinas, penicilinas de espectro alargado, fluoroquinolonas e clindamicina) em doentes de risco (B);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284400" indent="-2844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Auditar a prescrição de antibióticos e fornecer informação de retorno aos prescritores, poderá ser útil na mudança de hábitos (A)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284400" indent="-2844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Definir, aplicar e monitorizar um programa de uso racional de antibioterapia (A). Pode ser útil basear-se na epidemiologia local, restringindo o uso de cefalosporinas e clindamicina (exceto na profilaxia cirúrgica) (C);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284400" indent="-2844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Profilaxia antibiótica não deve continuar para além das 24 horas após o procedimento cirúrgico (A)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284400" indent="-2844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 u="sng">
                <a:solidFill>
                  <a:srgbClr val="000000"/>
                </a:solidFill>
                <a:uFillTx/>
                <a:latin typeface="Open Sans"/>
              </a:rPr>
              <a:t>Uso de probióticos: 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não é recomendado para prevenção de DACD primária. São limitados os dados que suportam a sua utilização e constitui risco potencial para desenvolver INCS. (C)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284400" indent="-2844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284400" indent="-2844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284400" indent="-28440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Tratamento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O tratamento de um 1.º episódio é iniciado em função da avaliação dos sintomas e gravidade da doença, tendo em consideração os fatores de risco individuais. (II)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5"/>
          <p:cNvSpPr/>
          <p:nvPr/>
        </p:nvSpPr>
        <p:spPr>
          <a:xfrm>
            <a:off x="712800" y="1828800"/>
            <a:ext cx="1981080" cy="60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ffffff"/>
                </a:solidFill>
                <a:latin typeface="Calibri"/>
              </a:rPr>
              <a:t>G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>
            <a:off x="1562040" y="3548160"/>
            <a:ext cx="2210040" cy="761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Calibri"/>
              </a:rPr>
              <a:t>Especí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aixaDeTexto 7"/>
          <p:cNvSpPr/>
          <p:nvPr/>
        </p:nvSpPr>
        <p:spPr>
          <a:xfrm>
            <a:off x="1066680" y="2438280"/>
            <a:ext cx="77724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Arial"/>
              </a:rPr>
              <a:t>Abordar as medidas básicas de prevenção da infecção por </a:t>
            </a:r>
            <a:r>
              <a:rPr b="0" i="1" lang="pt-PT" sz="2000" spc="-1" strike="noStrike">
                <a:solidFill>
                  <a:srgbClr val="000000"/>
                </a:solidFill>
                <a:latin typeface="Calibri"/>
                <a:ea typeface="Arial"/>
              </a:rPr>
              <a:t>Clostridium diffic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aixaDeTexto 8"/>
          <p:cNvSpPr/>
          <p:nvPr/>
        </p:nvSpPr>
        <p:spPr>
          <a:xfrm>
            <a:off x="990720" y="4309920"/>
            <a:ext cx="78483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Arial"/>
              </a:rPr>
              <a:t>Consolidar conhecimentos sobre este microrganismo “alert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Arial"/>
              </a:rPr>
              <a:t>Familiar os formandos com as medidas básicas de prevenção da transmissão cruzada deste microrganis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ângulo arredondado 10"/>
          <p:cNvSpPr/>
          <p:nvPr/>
        </p:nvSpPr>
        <p:spPr>
          <a:xfrm>
            <a:off x="2057400" y="609480"/>
            <a:ext cx="3124080" cy="533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ffffff"/>
                </a:solidFill>
                <a:latin typeface="Calibri"/>
              </a:rPr>
              <a:t>OBJECTIV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010640" cy="11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pen Sans"/>
              </a:rPr>
              <a:t>Tratamento – Medidas Gerais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23880" y="1142640"/>
            <a:ext cx="70106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Promover o uso de antibióticos de espectro restrito (B);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Promover a monitorização clínica utilizando os critérios clínicos e laboratoriais durante o período de sintomatologia (B);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No caso de suspeita de DACD grave iniciar o tratamento empírico (C);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Se o resultado da pesquisa de toxinas é negativo, a decisão para iniciar, continuar ou interromper o tratamento deve ser individualizada (C);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Se possível, evitar o uso de agentes antiperistálticos por poderem mascarar os sintomas e precipitar um megacólon tóxico (C);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Na DACD severa ou severa com complicações é recomendada a admissão hospitalar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Tratamento – Medidas Individuais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09480" y="1905120"/>
            <a:ext cx="79250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Interromper a toma de AB o mais rapidamente possível, pelo facto de influenciarem o risco de recorrência de DACD (A);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caso se mantenha o tratamento com antibióticos pode ser necessário prolongar o tratamento da DACD;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Interromper o uso de antidiarreicos e agentes supressores de suco gástrico (incluindo inibidores de bomba de protões) se possível (B);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762120" y="1676520"/>
          <a:ext cx="7848360" cy="4572000"/>
        </p:xfrm>
        <a:graphic>
          <a:graphicData uri="http://schemas.openxmlformats.org/drawingml/2006/table">
            <a:tbl>
              <a:tblPr/>
              <a:tblGrid>
                <a:gridCol w="1628640"/>
                <a:gridCol w="1984320"/>
                <a:gridCol w="2205000"/>
                <a:gridCol w="2030400"/>
              </a:tblGrid>
              <a:tr h="950760"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avidade da DACD e episódio inicial ou recorrê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térios clín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térios laboratori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t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21240"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ffc000"/>
                          </a:solidFill>
                          <a:latin typeface="Arial"/>
                          <a:ea typeface="Calibri"/>
                        </a:rPr>
                        <a:t>Suave ou moder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ffc000"/>
                          </a:solidFill>
                          <a:latin typeface="Arial"/>
                          <a:ea typeface="Calibri"/>
                        </a:rPr>
                        <a:t>(A-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ffc000"/>
                          </a:solidFill>
                          <a:latin typeface="Arial"/>
                          <a:ea typeface="Calibri"/>
                        </a:rPr>
                        <a:t>Episódio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ffc000"/>
                          </a:solidFill>
                          <a:latin typeface="Arial"/>
                          <a:ea typeface="Calibri"/>
                        </a:rPr>
                        <a:t>Primeira recorrê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ezes aquosas/liquidas, não formadas, com muco e sangue oculto (3 a 5 dejeções nas 24 horas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ebre (&gt; 38.5°C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rca de apetite, náuseas, cólicas e desconforto abdomi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ucócitos ≤ 15x10</a:t>
                      </a:r>
                      <a:r>
                        <a:rPr b="0" lang="pt-PT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/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eatinina sérica &lt;1.5 mg/d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tronidazol 400/500mg oral 3 tomas diárias durante 10 a 14 di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 não tolera terapêutica or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tronidazol 500 mg EV 8/8 h durante 10 d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 não melhora ao fim de 3-5 dia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ancomicina 125 mg oral 4 tomas diárias durante 10 a 14 di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1295280" y="990720"/>
          <a:ext cx="7239240" cy="5867280"/>
        </p:xfrm>
        <a:graphic>
          <a:graphicData uri="http://schemas.openxmlformats.org/drawingml/2006/table">
            <a:tbl>
              <a:tblPr/>
              <a:tblGrid>
                <a:gridCol w="1501920"/>
                <a:gridCol w="1830240"/>
                <a:gridCol w="2033640"/>
                <a:gridCol w="1873440"/>
              </a:tblGrid>
              <a:tr h="5867280"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Sev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(B-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pisódio 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eira recorrê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c000"/>
                          </a:solidFill>
                          <a:latin typeface="Arial"/>
                          <a:ea typeface="Calibri"/>
                        </a:rPr>
                        <a:t>Recomendada admissão hospitala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ebre (&gt; 38.5°C), instabilidade hemodinâmica, peritonite ou evidência de perfuração intestinal, íleos ou megacólon tox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ucócitos &gt;15x10</a:t>
                      </a:r>
                      <a:r>
                        <a:rPr b="0" lang="pt-PT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/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&lt;20% Neutrófil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actato elev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umento do nível de creatinina (&gt; 50% acima do valor basal) ou creatinina sérica ≥ 1.5 mg/d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lbumina &lt;2.5 g/d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ancomicina 125mg oral 4 tomas diárias durante 10 a 14 d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4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Se não tolera terapêutica ora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tronidazol 500 mg EV 8/8 horas durante 10 di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ancomicina 500mg/100ml em soro fisiológico (enema de retenção) a intervalos de 4-12 h horas) e/ou Vancomicina 500mg 4xid pela sonda nasogást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609480" y="2286000"/>
          <a:ext cx="8077320" cy="2590920"/>
        </p:xfrm>
        <a:graphic>
          <a:graphicData uri="http://schemas.openxmlformats.org/drawingml/2006/table">
            <a:tbl>
              <a:tblPr/>
              <a:tblGrid>
                <a:gridCol w="1676520"/>
                <a:gridCol w="2041560"/>
                <a:gridCol w="2270160"/>
                <a:gridCol w="2089080"/>
              </a:tblGrid>
              <a:tr h="259092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vera complicada (C-II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c000"/>
                          </a:solidFill>
                          <a:latin typeface="Arial"/>
                          <a:ea typeface="Calibri"/>
                        </a:rPr>
                        <a:t>Recomendada admissão hospita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rfuração intest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terioração (inclui íleos seve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psi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actato&gt; 5mmol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ucócitos&gt; 50x10</a:t>
                      </a:r>
                      <a:r>
                        <a:rPr b="0" lang="pt-PT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/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irurg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colectomia parcial com preservação do reto (B-I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762120" y="1676520"/>
          <a:ext cx="7772400" cy="4800600"/>
        </p:xfrm>
        <a:graphic>
          <a:graphicData uri="http://schemas.openxmlformats.org/drawingml/2006/table">
            <a:tbl>
              <a:tblPr/>
              <a:tblGrid>
                <a:gridCol w="1612800"/>
                <a:gridCol w="1965240"/>
                <a:gridCol w="2183040"/>
                <a:gridCol w="2011320"/>
              </a:tblGrid>
              <a:tr h="480060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gunda recorrência e subsequent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B-II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c000"/>
                          </a:solidFill>
                          <a:latin typeface="Arial"/>
                          <a:ea typeface="Calibri"/>
                        </a:rPr>
                        <a:t>Recomendada admissão hospita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ancomicina em esquema exemplo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4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SHEA-IDSA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5mg oral 4xid 14 d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5mg oral 2xid 7 d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5mg dias alternados 2-8 sema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4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NHS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5mg oral 4xid 14 d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5mg oral 2xid 7 d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5mg oral id 7 d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5mg oral 3/3dias 28 d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950840" y="111960"/>
            <a:ext cx="524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 u="sng" baseline="30000">
                <a:solidFill>
                  <a:srgbClr val="0000ff"/>
                </a:solidFill>
                <a:uFillTx/>
                <a:latin typeface="Arial"/>
                <a:ea typeface="Calibri"/>
                <a:hlinkClick r:id="rId1" action="ppaction://hlinksldjump"/>
              </a:rPr>
              <a:t>[1]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Calibri"/>
              </a:rPr>
              <a:t> Na segunda recorrência segundo a SHEA e IDSA; na terceira recorrência segundo N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33160" y="1599840"/>
            <a:ext cx="800100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 u="sng">
                <a:solidFill>
                  <a:srgbClr val="000000"/>
                </a:solidFill>
                <a:uFillTx/>
                <a:latin typeface="Open Sans"/>
              </a:rPr>
              <a:t>Não usar Metronidazol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para além da 1.ª recorrência ou por um longo período (&gt; a 4-6 semanas) dado o potencial efeito cumulativo de neurotoxicidade (B)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O uso prolongado de Vancomicina pode constituir risco de seleção de Enterococos e Estafilococos resistentes à Vancomicina.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 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duração usual de tratamento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é de 10 dias para doentes que estejam a responder à terapêutica. Alguns doentes podem requerer mais de 14 dias de terapêutica, a qual deve ser interrompida com a maior brevidade possível de modo a permitir a reconstrução da flora normal do intestino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 u="sng">
                <a:solidFill>
                  <a:srgbClr val="000000"/>
                </a:solidFill>
                <a:uFillTx/>
                <a:latin typeface="Open Sans"/>
              </a:rPr>
              <a:t>Falência do tratamento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: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sem melhoria clínica ou aumento do número de dejeções após 3 5 dias de terapêutica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Open Sans"/>
              </a:rPr>
              <a:t>RECOMENDAÇÕES PARA DOENTES E FAMILIARES</a:t>
            </a:r>
            <a:br>
              <a:rPr sz="6000"/>
            </a:b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905120"/>
            <a:ext cx="807732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Higiene das mãos após contacto com pessoa ou superfícies próximas, com água e sabão liquido;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Lavagem da roupa em separado a temperatura ≥ 60°C;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As toalhas devem ser lavadas após cada utilização;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As carpetes devem ser aspiradas e o chão lavado diariamente. Lavar as carpetes a vapor se visivelmente sujas;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701064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Open Sans"/>
              </a:rPr>
              <a:t>RECOMENDAÇÕES PARA DOENTES E FAMILIARES</a:t>
            </a:r>
            <a:br>
              <a:rPr sz="9600"/>
            </a:br>
            <a:br>
              <a:rPr sz="9600"/>
            </a:b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880" y="1371240"/>
            <a:ext cx="83059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Usar lixivia diluída 1:10 (1 medida de lixivia e 9 medidas de água fria) para limpar superfícies e chão: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lvl="1" marL="660960" indent="-2541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Remover sujidade (fezes) visível com toalhete de papel ou pano descartável (se for reutilizado pode ocasionar a disseminação dos esporos para outras superfícies)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lvl="1" marL="660960" indent="-25416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Aplicar a lixívia diluída com outro toalhete de papel ou pano descartável (para remoção de qualquer sujidade que permaneça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lvl="1" marL="660960" indent="-2541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Aplicar novamente a lixivia diluída com outro toalhete ou pano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lvl="1" marL="660960" indent="-2541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Utilizar luvas descartáveis para proceder à limpeza de sujidade visível (fezes ou vómito). É importante a lavagem das mãos após a remoção das luvas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Pessoa infetada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219320" y="761760"/>
            <a:ext cx="73152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Se o doente está 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Open Sans"/>
              </a:rPr>
              <a:t>sem diarreia há mais de 48 horas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, mesmo que esteja ainda sob terapêutica para o tratamento da infeção por </a:t>
            </a:r>
            <a:r>
              <a:rPr b="0" i="1" lang="pt-PT" sz="2000" spc="-1" strike="noStrike">
                <a:solidFill>
                  <a:srgbClr val="000000"/>
                </a:solidFill>
                <a:latin typeface="Open Sans"/>
              </a:rPr>
              <a:t>CD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, não são necessários cuidados especiais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A higiene das mãos por rotina e a limpeza habitual da casa, são suficientes. Deve ser instruído para a necessidade de alertar o seu médico para o facto de ter tido DACD, caso venha a necessitar de antibióticos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Se o doente está 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Open Sans"/>
              </a:rPr>
              <a:t>com diarreia: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recomendar higiene das mãos frequente, particularmente após uso de instalações sanitárias e antes de comer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Sempre que possível, o doente deve evitar preparar alimentos para outras pessoas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Open Sans"/>
              </a:rPr>
              <a:t>.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Recomendar banho diário, se possível.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Durante o período com diarreia é importante limpar e desinfetar a sanita, com lixivia diluída a 1:10 (assento e botão de autoclismo), após cada utilização.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Não partilhar toalhas, toalhas de rosto ou escova de dentes com outros membros da família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Open Sans"/>
              </a:rPr>
              <a:t>Doença Associada ao </a:t>
            </a:r>
            <a:br>
              <a:rPr sz="2800"/>
            </a:br>
            <a:r>
              <a:rPr b="0" lang="pt-PT" sz="2800" spc="-1" strike="noStrike">
                <a:solidFill>
                  <a:srgbClr val="000000"/>
                </a:solidFill>
                <a:latin typeface="Open Sans"/>
              </a:rPr>
              <a:t>Clostridium difficile (DACD)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71600"/>
            <a:ext cx="84582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900" spc="-1" strike="noStrike">
                <a:solidFill>
                  <a:srgbClr val="000000"/>
                </a:solidFill>
                <a:latin typeface="Open Sans"/>
              </a:rPr>
              <a:t>Clostridium difficile</a:t>
            </a:r>
            <a:r>
              <a:rPr b="0" lang="pt-PT" sz="1900" spc="-1" strike="noStrike">
                <a:solidFill>
                  <a:srgbClr val="000000"/>
                </a:solidFill>
                <a:latin typeface="Open Sans"/>
              </a:rPr>
              <a:t> - bactéria anaeróbia, Gram positiva, esporulada, é responsável pela colite associada a antibioterapia e por 15-20% dos casos de diarreia nosocomial associada a antibióticos. </a:t>
            </a:r>
            <a:endParaRPr b="0" lang="en-US" sz="19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900" spc="-1" strike="noStrike">
                <a:solidFill>
                  <a:srgbClr val="000000"/>
                </a:solidFill>
                <a:latin typeface="Open Sans"/>
              </a:rPr>
              <a:t>Os esporos, resistentes ao calor, detergentes e desinfetantes, podem permanecer por longos períodos no ambiente.</a:t>
            </a:r>
            <a:endParaRPr b="0" lang="en-US" sz="19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Open Sans"/>
              </a:rPr>
              <a:t>Vários estudos demonstraram que &gt; de 50% dos doentes internados no hospital são portadores assintomáticos.</a:t>
            </a:r>
            <a:endParaRPr b="0" lang="en-US" sz="19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900" spc="-1" strike="noStrike">
                <a:solidFill>
                  <a:srgbClr val="000000"/>
                </a:solidFill>
                <a:latin typeface="Open Sans"/>
              </a:rPr>
              <a:t>Os sintomas surgem, em média, 2-3 dias após a colonização e 5 a 10 dias após o início da toma de antibióticos. </a:t>
            </a:r>
            <a:endParaRPr b="0" lang="en-US" sz="19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Open Sans"/>
              </a:rPr>
              <a:t>Relatos de início dos mesmos 2 dias após a 1.ª toma de antibióticos e até 10 semanas após a conclusão do tratamento.</a:t>
            </a:r>
            <a:endParaRPr b="0" lang="en-US" sz="19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102" name="Picture 13" descr="C. diffici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48440" y="0"/>
            <a:ext cx="20955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ítulo 3"/>
          <p:cNvSpPr/>
          <p:nvPr/>
        </p:nvSpPr>
        <p:spPr>
          <a:xfrm>
            <a:off x="706320" y="93600"/>
            <a:ext cx="7139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  <a:ea typeface="Arial"/>
              </a:rPr>
              <a:t>Atuação na suspeita/diagnostico de Doença Associada a Clostridium diffic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aixaDeTexto 7"/>
          <p:cNvSpPr/>
          <p:nvPr/>
        </p:nvSpPr>
        <p:spPr>
          <a:xfrm>
            <a:off x="561960" y="669960"/>
            <a:ext cx="799308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Definição de caso</a:t>
            </a: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: fezes aquosas/liquidas ou moldáveis a contentor, com frequência aumentada nas 24 horas ou num curto período de tempo, sem reconhecimento de outra etiologia (laxantes, alimentação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aixaDeTexto 8"/>
          <p:cNvSpPr/>
          <p:nvPr/>
        </p:nvSpPr>
        <p:spPr>
          <a:xfrm>
            <a:off x="1427040" y="1461960"/>
            <a:ext cx="604836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Aplicação de medidas adicionais de isolamento de contacto em adição às medidas básicas de isola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aixaDeTexto 9"/>
          <p:cNvSpPr/>
          <p:nvPr/>
        </p:nvSpPr>
        <p:spPr>
          <a:xfrm>
            <a:off x="561960" y="2109960"/>
            <a:ext cx="7848720" cy="64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Fezes para pesquisa de toxinas A e B (não enviar zaragatoa retal ou fezes moldad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Não realizar cultura de fezes em doentes assintomá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Não colher fezes a crianças com idade inferior a 1 ano (CD faz parte da flora normal neste grup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aixaDeTexto 10"/>
          <p:cNvSpPr/>
          <p:nvPr/>
        </p:nvSpPr>
        <p:spPr>
          <a:xfrm>
            <a:off x="1785960" y="2973240"/>
            <a:ext cx="13381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  <a:ea typeface="Arial"/>
              </a:rPr>
              <a:t>POS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aixaDeTexto 11"/>
          <p:cNvSpPr/>
          <p:nvPr/>
        </p:nvSpPr>
        <p:spPr>
          <a:xfrm>
            <a:off x="6035760" y="2973240"/>
            <a:ext cx="1279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  <a:ea typeface="Arial"/>
              </a:rPr>
              <a:t>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aixaDeTexto 12"/>
          <p:cNvSpPr/>
          <p:nvPr/>
        </p:nvSpPr>
        <p:spPr>
          <a:xfrm>
            <a:off x="5315040" y="3549600"/>
            <a:ext cx="331128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Segunda colheita de fezes se doente está sintomá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aixaDeTexto 13"/>
          <p:cNvSpPr/>
          <p:nvPr/>
        </p:nvSpPr>
        <p:spPr>
          <a:xfrm>
            <a:off x="5791320" y="4270320"/>
            <a:ext cx="12952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  <a:ea typeface="Arial"/>
              </a:rPr>
              <a:t>NEGA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aixaDeTexto 14"/>
          <p:cNvSpPr/>
          <p:nvPr/>
        </p:nvSpPr>
        <p:spPr>
          <a:xfrm flipH="1">
            <a:off x="7475400" y="4197240"/>
            <a:ext cx="1393920" cy="824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Mantem precauções de isolamento de conta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aixaDeTexto 15"/>
          <p:cNvSpPr/>
          <p:nvPr/>
        </p:nvSpPr>
        <p:spPr>
          <a:xfrm>
            <a:off x="5387040" y="5133960"/>
            <a:ext cx="2160360" cy="276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Elevada suspeição de DA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aixaDeTexto 16"/>
          <p:cNvSpPr/>
          <p:nvPr/>
        </p:nvSpPr>
        <p:spPr>
          <a:xfrm>
            <a:off x="5386320" y="5562720"/>
            <a:ext cx="2308320" cy="1371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Fatores de risco para DAC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Antibioterapia prévia (3 me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Cirurgia intest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Quimioterap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Hospitalização prolong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Idade &gt; 65 a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aixaDeTexto 17"/>
          <p:cNvSpPr/>
          <p:nvPr/>
        </p:nvSpPr>
        <p:spPr>
          <a:xfrm>
            <a:off x="345960" y="3621240"/>
            <a:ext cx="324036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Manter precauções de isolamento de conta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aixaDeTexto 18"/>
          <p:cNvSpPr/>
          <p:nvPr/>
        </p:nvSpPr>
        <p:spPr>
          <a:xfrm>
            <a:off x="2435400" y="44863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aixaDeTexto 17"/>
          <p:cNvSpPr/>
          <p:nvPr/>
        </p:nvSpPr>
        <p:spPr>
          <a:xfrm>
            <a:off x="561960" y="4341960"/>
            <a:ext cx="3456000" cy="22842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Quarto individual com casa de banho ou agrupamento de doentes confirmado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Sinalizar a porta do quarto, com placa identificativ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Luvas e bata para entrar no quart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Cumprir com as recomendações para a higiene das mão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Equipamento individualizado ou desinfectado entre doente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Manuseamento cuidadoso      de arrastadeiras para minimizar risco de dispers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aixaDeTexto 18"/>
          <p:cNvSpPr/>
          <p:nvPr/>
        </p:nvSpPr>
        <p:spPr>
          <a:xfrm>
            <a:off x="289080" y="6516720"/>
            <a:ext cx="254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Adaptado de: Public Health Dividion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onexão recta unidireccional 20"/>
          <p:cNvCxnSpPr/>
          <p:nvPr/>
        </p:nvCxnSpPr>
        <p:spPr>
          <a:xfrm flipH="1">
            <a:off x="4233600" y="1174680"/>
            <a:ext cx="2160" cy="21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4" name="Conexão recta unidireccional 25"/>
          <p:cNvCxnSpPr/>
          <p:nvPr/>
        </p:nvCxnSpPr>
        <p:spPr>
          <a:xfrm flipH="1">
            <a:off x="2361960" y="3405240"/>
            <a:ext cx="2160" cy="216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5" name="Conexão recta unidireccional 26"/>
          <p:cNvCxnSpPr/>
          <p:nvPr/>
        </p:nvCxnSpPr>
        <p:spPr>
          <a:xfrm flipH="1">
            <a:off x="2361960" y="2757240"/>
            <a:ext cx="2160" cy="216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" name="Conexão recta unidireccional 27"/>
          <p:cNvCxnSpPr/>
          <p:nvPr/>
        </p:nvCxnSpPr>
        <p:spPr>
          <a:xfrm flipH="1">
            <a:off x="6538680" y="2757240"/>
            <a:ext cx="2160" cy="216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7" name="Conexão recta unidireccional 28"/>
          <p:cNvCxnSpPr/>
          <p:nvPr/>
        </p:nvCxnSpPr>
        <p:spPr>
          <a:xfrm flipH="1">
            <a:off x="6538680" y="3333600"/>
            <a:ext cx="2160" cy="216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8" name="Conexão recta unidireccional 29"/>
          <p:cNvCxnSpPr/>
          <p:nvPr/>
        </p:nvCxnSpPr>
        <p:spPr>
          <a:xfrm flipH="1">
            <a:off x="6538680" y="4054320"/>
            <a:ext cx="2160" cy="21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9" name="Conexão recta unidireccional 30"/>
          <p:cNvCxnSpPr/>
          <p:nvPr/>
        </p:nvCxnSpPr>
        <p:spPr>
          <a:xfrm>
            <a:off x="7114680" y="4486320"/>
            <a:ext cx="3610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0" name="Conexão recta unidireccional 31"/>
          <p:cNvCxnSpPr/>
          <p:nvPr/>
        </p:nvCxnSpPr>
        <p:spPr>
          <a:xfrm flipH="1">
            <a:off x="6466680" y="4701960"/>
            <a:ext cx="1080" cy="36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1" name="Conexão recta unidireccional 32"/>
          <p:cNvCxnSpPr>
            <a:stCxn id="167" idx="1"/>
          </p:cNvCxnSpPr>
          <p:nvPr/>
        </p:nvCxnSpPr>
        <p:spPr>
          <a:xfrm flipH="1">
            <a:off x="4090680" y="5271120"/>
            <a:ext cx="1296000" cy="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2" name="CaixaDeTexto 43"/>
          <p:cNvSpPr/>
          <p:nvPr/>
        </p:nvSpPr>
        <p:spPr>
          <a:xfrm>
            <a:off x="3809880" y="3581280"/>
            <a:ext cx="11430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  <a:ea typeface="Arial"/>
              </a:rPr>
              <a:t>POSITIV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Conexão recta unidireccional 46"/>
          <p:cNvCxnSpPr/>
          <p:nvPr/>
        </p:nvCxnSpPr>
        <p:spPr>
          <a:xfrm flipH="1">
            <a:off x="4667040" y="1893600"/>
            <a:ext cx="2160" cy="214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4" name="Conexão recta unidireccional 47"/>
          <p:cNvCxnSpPr>
            <a:stCxn id="182" idx="1"/>
            <a:endCxn id="169" idx="3"/>
          </p:cNvCxnSpPr>
          <p:nvPr/>
        </p:nvCxnSpPr>
        <p:spPr>
          <a:xfrm flipH="1">
            <a:off x="3585600" y="3751200"/>
            <a:ext cx="224280" cy="102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5" name="Conexão recta unidireccional 48"/>
          <p:cNvCxnSpPr>
            <a:stCxn id="164" idx="1"/>
            <a:endCxn id="182" idx="3"/>
          </p:cNvCxnSpPr>
          <p:nvPr/>
        </p:nvCxnSpPr>
        <p:spPr>
          <a:xfrm flipH="1" flipV="1">
            <a:off x="4952880" y="3751200"/>
            <a:ext cx="362520" cy="3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6" name="Conexão recta unidireccional 58"/>
          <p:cNvCxnSpPr>
            <a:endCxn id="171" idx="0"/>
          </p:cNvCxnSpPr>
          <p:nvPr/>
        </p:nvCxnSpPr>
        <p:spPr>
          <a:xfrm flipH="1">
            <a:off x="2288880" y="4053960"/>
            <a:ext cx="2160" cy="28944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CaixaDeTexto 1"/>
          <p:cNvSpPr/>
          <p:nvPr/>
        </p:nvSpPr>
        <p:spPr>
          <a:xfrm>
            <a:off x="1643040" y="216000"/>
            <a:ext cx="512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  <a:ea typeface="Arial"/>
              </a:rPr>
              <a:t>Tratamento do primeiro e segundo episódios de DA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ixaDeTexto 2"/>
          <p:cNvSpPr/>
          <p:nvPr/>
        </p:nvSpPr>
        <p:spPr>
          <a:xfrm>
            <a:off x="1295280" y="647640"/>
            <a:ext cx="720108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O tratamento da DACD deve ser iniciado com base na avaliação de sintomas e severidade da doença, tendo em consideração os fatores de risco individuais do do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ixaDeTexto 3"/>
          <p:cNvSpPr/>
          <p:nvPr/>
        </p:nvSpPr>
        <p:spPr>
          <a:xfrm>
            <a:off x="3741840" y="1440000"/>
            <a:ext cx="5222880" cy="824040"/>
          </a:xfrm>
          <a:prstGeom prst="rect">
            <a:avLst/>
          </a:prstGeom>
          <a:solidFill>
            <a:srgbClr val="ffffff"/>
          </a:solidFill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Assegurar a aplicação das medidas de prevenção e controlo de infeção assim que a diarreia tem inicio (não esperar pelo resultado do laboratór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Interromper tratamento antibiótico (não relacionado com DACD) em caso de suspe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Conexão recta unidireccional 5"/>
          <p:cNvCxnSpPr/>
          <p:nvPr/>
        </p:nvCxnSpPr>
        <p:spPr>
          <a:xfrm flipH="1">
            <a:off x="6587280" y="1152000"/>
            <a:ext cx="1080" cy="2883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1" name="Conexão recta unidireccional 10"/>
          <p:cNvCxnSpPr/>
          <p:nvPr/>
        </p:nvCxnSpPr>
        <p:spPr>
          <a:xfrm flipH="1">
            <a:off x="2339280" y="1152360"/>
            <a:ext cx="1080" cy="122472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2" name="CaixaDeTexto 12"/>
          <p:cNvSpPr/>
          <p:nvPr/>
        </p:nvSpPr>
        <p:spPr>
          <a:xfrm>
            <a:off x="324000" y="2376360"/>
            <a:ext cx="4248000" cy="1371600"/>
          </a:xfrm>
          <a:prstGeom prst="rect">
            <a:avLst/>
          </a:prstGeom>
          <a:solidFill>
            <a:srgbClr val="ffffff"/>
          </a:solidFill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Critérios de severidade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Temperatura &gt; 38,5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Fatores de risco (hospitalização em UCI, imunossupressã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suspeita de colite pseudomembranosa, megacolon toxico, ile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dilatação do colon &gt; 6 cm (imagiologia – Rx ou TA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Leucócitos &gt; 15 cel/m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creatinina &gt;1.5 x linha d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ixaDeTexto 13"/>
          <p:cNvSpPr/>
          <p:nvPr/>
        </p:nvSpPr>
        <p:spPr>
          <a:xfrm>
            <a:off x="250920" y="4176720"/>
            <a:ext cx="3384360" cy="641520"/>
          </a:xfrm>
          <a:prstGeom prst="rect">
            <a:avLst/>
          </a:prstGeom>
          <a:solidFill>
            <a:srgbClr val="ffffff"/>
          </a:solidFill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Doente com um ou sem critérios de severidade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Metronidazol 400/500mg 3xid durante 10-14 d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Hidrataçã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ixaDeTexto 14"/>
          <p:cNvSpPr/>
          <p:nvPr/>
        </p:nvSpPr>
        <p:spPr>
          <a:xfrm>
            <a:off x="5003640" y="2808360"/>
            <a:ext cx="3456000" cy="641520"/>
          </a:xfrm>
          <a:prstGeom prst="rect">
            <a:avLst/>
          </a:prstGeom>
          <a:solidFill>
            <a:srgbClr val="ffffff"/>
          </a:solidFill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Doente com dois ou mais critérios de severidade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Vancomicina oral 125mg 4xid durante 10-14 d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Hidrataçã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ixaDeTexto 15"/>
          <p:cNvSpPr/>
          <p:nvPr/>
        </p:nvSpPr>
        <p:spPr>
          <a:xfrm>
            <a:off x="179280" y="5256360"/>
            <a:ext cx="4464000" cy="1371600"/>
          </a:xfrm>
          <a:prstGeom prst="rect">
            <a:avLst/>
          </a:prstGeom>
          <a:solidFill>
            <a:srgbClr val="ffffff"/>
          </a:solidFill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Avaliação diária do doente com doença suave ou moderada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Monitorizar  eliminação intestinal e balanço hídric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Vigiar sinais e sintomas (leucócitos e hipotensã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Na ausência de melhoria clinica 5 dias após inicio de Metronidazol, interrompe a inicia Vancomicina oral 125mg 4xid durante 10-14 d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CaixaDeTexto 16"/>
          <p:cNvSpPr/>
          <p:nvPr/>
        </p:nvSpPr>
        <p:spPr>
          <a:xfrm>
            <a:off x="5076720" y="3960720"/>
            <a:ext cx="3456000" cy="2284200"/>
          </a:xfrm>
          <a:prstGeom prst="rect">
            <a:avLst/>
          </a:prstGeom>
          <a:solidFill>
            <a:srgbClr val="ffffff"/>
          </a:solidFill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Avaliação diária do doente com doença severa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Monitorizar  eliminação intestinal e balanço hídric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Vigiar sinais e sintomas (leucócitos e hipotensã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Consulta de cirurgião, gastrenterologista e microbiolog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Imagiologia abdominal (Rx ou TAC); considerar colite pseudomembranosa, megacolon toxico, ileos  ou perfur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Se deteção de íleos, associa Metronidazol 500mg EV 3xid até resolução do íle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Conexão recta unidireccional 17"/>
          <p:cNvCxnSpPr/>
          <p:nvPr/>
        </p:nvCxnSpPr>
        <p:spPr>
          <a:xfrm flipH="1">
            <a:off x="1475640" y="3816000"/>
            <a:ext cx="1080" cy="2894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8" name="Conexão recta unidireccional 18"/>
          <p:cNvCxnSpPr/>
          <p:nvPr/>
        </p:nvCxnSpPr>
        <p:spPr>
          <a:xfrm flipH="1">
            <a:off x="6875280" y="3529080"/>
            <a:ext cx="2160" cy="28800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9" name="Conexão recta unidireccional 19"/>
          <p:cNvCxnSpPr/>
          <p:nvPr/>
        </p:nvCxnSpPr>
        <p:spPr>
          <a:xfrm>
            <a:off x="4642920" y="2952720"/>
            <a:ext cx="288360" cy="21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" name="Conexão recta unidireccional 20"/>
          <p:cNvCxnSpPr/>
          <p:nvPr/>
        </p:nvCxnSpPr>
        <p:spPr>
          <a:xfrm flipH="1">
            <a:off x="1618920" y="4897440"/>
            <a:ext cx="2160" cy="28800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Referências Bibliográficas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1920" y="1752120"/>
            <a:ext cx="84582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César, Artur J. Fernandes: “</a:t>
            </a:r>
            <a:r>
              <a:rPr b="1" i="1" lang="pt-PT" sz="2000" spc="-1" strike="noStrike">
                <a:solidFill>
                  <a:srgbClr val="000000"/>
                </a:solidFill>
                <a:latin typeface="Open Sans"/>
              </a:rPr>
              <a:t>Clostridium difficile: prevenção e controlo”.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Faculdade Medicina Universidade do Porto. Mestrado Integrado em medicina 2009-2010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Smith Philip W. et al: “</a:t>
            </a:r>
            <a:r>
              <a:rPr b="0" i="1" lang="pt-PT" sz="2000" spc="-1" strike="noStrike">
                <a:solidFill>
                  <a:srgbClr val="000000"/>
                </a:solidFill>
                <a:latin typeface="Open Sans"/>
              </a:rPr>
              <a:t>SHEA/APIC Guideline: Infection prevention and control </a:t>
            </a:r>
            <a:r>
              <a:rPr b="0" i="1" lang="en-US" sz="2000" spc="-1" strike="noStrike">
                <a:solidFill>
                  <a:srgbClr val="000000"/>
                </a:solidFill>
                <a:latin typeface="Open Sans"/>
              </a:rPr>
              <a:t>in the long-term care facility</a:t>
            </a:r>
            <a:r>
              <a:rPr b="0" lang="en-US" sz="2000" spc="-1" strike="noStrike">
                <a:solidFill>
                  <a:srgbClr val="000000"/>
                </a:solidFill>
                <a:latin typeface="Open Sans"/>
              </a:rPr>
              <a:t>”. 2008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ângulo 2"/>
          <p:cNvSpPr/>
          <p:nvPr/>
        </p:nvSpPr>
        <p:spPr>
          <a:xfrm>
            <a:off x="1192320" y="2778120"/>
            <a:ext cx="68342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984807"/>
                </a:solidFill>
                <a:latin typeface="Open Sans"/>
              </a:rPr>
              <a:t>Obrigada pela Atençã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0000"/>
                </a:solidFill>
                <a:latin typeface="Open Sans"/>
              </a:rPr>
              <a:t>Fatores de risco para o desenvolvimento da doenç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0880" y="1447920"/>
            <a:ext cx="838224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ntibioticoterapia prévia nos 3 meses anteriores ao início da sintomatologia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Idade ≥ 65 anos;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 (os antibióticos, em geral, provocam alteração da flora intestinal, favorecendo o desenvolvimento do </a:t>
            </a:r>
            <a:r>
              <a:rPr b="0" i="1" lang="pt-PT" sz="1400" spc="-1" strike="noStrike">
                <a:solidFill>
                  <a:srgbClr val="000000"/>
                </a:solidFill>
                <a:latin typeface="Open Sans"/>
              </a:rPr>
              <a:t>Clostridium difficile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. Os antibióticos mais frequentemente implicados são ampicilina, amoxicilina, cefalosporinas de 3ª e 4ª geração, fluoroquinolonas e clindamicina)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Internamento prolongado;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Comorbilidades importantes associadas;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Citostáticos (efeitos imunossupressivos da neutropenia);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Cirurgia gastrintestinal ou manipulação do aparelho gastrintestinal, incluindo sonda de nutrição entérica;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Uso de inibidores da bomba de protões (suprimem o suco gástrico e podem mascarar a severidade da doença)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Open Sans"/>
              </a:rPr>
              <a:t>Via de transmissão e epidemiologia da colonização e infeção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120" y="1142640"/>
            <a:ext cx="81536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4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Open Sans"/>
              </a:rPr>
              <a:t>O contacto (direto e indireto)       principal via de transmissão do </a:t>
            </a:r>
            <a:r>
              <a:rPr b="0" i="1" lang="pt-PT" sz="1700" spc="-1" strike="noStrike">
                <a:solidFill>
                  <a:srgbClr val="000000"/>
                </a:solidFill>
                <a:latin typeface="Open Sans"/>
              </a:rPr>
              <a:t>CD</a:t>
            </a:r>
            <a:endParaRPr b="0" lang="en-US" sz="1700" spc="-1" strike="noStrike">
              <a:solidFill>
                <a:srgbClr val="000000"/>
              </a:solidFill>
              <a:latin typeface="Open Sans"/>
            </a:endParaRPr>
          </a:p>
          <a:p>
            <a:pPr marL="332640" indent="-332640" algn="just">
              <a:lnSpc>
                <a:spcPct val="14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Open Sans"/>
              </a:rPr>
              <a:t>Resulta da disseminação pessoa a pessoa, por via fecal-oral, + em doentes internados. </a:t>
            </a:r>
            <a:endParaRPr b="0" lang="en-US" sz="1700" spc="-1" strike="noStrike">
              <a:solidFill>
                <a:srgbClr val="000000"/>
              </a:solidFill>
              <a:latin typeface="Open Sans"/>
            </a:endParaRPr>
          </a:p>
          <a:p>
            <a:pPr marL="332640" indent="-332640" algn="just">
              <a:lnSpc>
                <a:spcPct val="14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Open Sans"/>
              </a:rPr>
              <a:t>Risco de colonização &gt; cumulativamente, em cada dia de internamento com risco de exposição aos esporos.</a:t>
            </a:r>
            <a:endParaRPr b="0" lang="en-US" sz="1700" spc="-1" strike="noStrike">
              <a:solidFill>
                <a:srgbClr val="000000"/>
              </a:solidFill>
              <a:latin typeface="Open Sans"/>
            </a:endParaRPr>
          </a:p>
          <a:p>
            <a:pPr marL="332640" indent="-332640" algn="just">
              <a:lnSpc>
                <a:spcPct val="14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700" spc="-1" strike="noStrike">
                <a:solidFill>
                  <a:srgbClr val="000000"/>
                </a:solidFill>
                <a:latin typeface="Open Sans"/>
              </a:rPr>
              <a:t>Os doentes sintomáticos com CD     principal fonte de contaminação do ambiente nas US.</a:t>
            </a:r>
            <a:endParaRPr b="0" lang="en-US" sz="1700" spc="-1" strike="noStrike">
              <a:solidFill>
                <a:srgbClr val="000000"/>
              </a:solidFill>
              <a:latin typeface="Open Sans"/>
            </a:endParaRPr>
          </a:p>
          <a:p>
            <a:pPr marL="332640" indent="-332640" algn="just">
              <a:lnSpc>
                <a:spcPct val="14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700" spc="-1" strike="noStrike">
                <a:solidFill>
                  <a:srgbClr val="000000"/>
                </a:solidFill>
                <a:latin typeface="Open Sans"/>
              </a:rPr>
              <a:t>Os sanitários, arrastadeiras, termómetros retais e o ambiente dos doentes com CD e as superfícies + tocadas na unidade do doente ou no WC), podem estar contaminados  se não forem devidamente higienizados entre doentes.</a:t>
            </a:r>
            <a:endParaRPr b="0" lang="en-US" sz="1700" spc="-1" strike="noStrike">
              <a:solidFill>
                <a:srgbClr val="000000"/>
              </a:solidFill>
              <a:latin typeface="Open Sans"/>
            </a:endParaRPr>
          </a:p>
          <a:p>
            <a:pPr marL="332640" indent="-332640" algn="just">
              <a:lnSpc>
                <a:spcPct val="14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Open Sans"/>
              </a:rPr>
              <a:t>Mãos dos profissionais de saúde – contaminação transitoria com os esporos          disseminação para outros doentes ou superfícies. </a:t>
            </a:r>
            <a:endParaRPr b="0" lang="en-US" sz="1700" spc="-1" strike="noStrike">
              <a:solidFill>
                <a:srgbClr val="000000"/>
              </a:solidFill>
              <a:latin typeface="Open Sans"/>
            </a:endParaRPr>
          </a:p>
          <a:p>
            <a:pPr marL="332640" indent="-332640" algn="just">
              <a:lnSpc>
                <a:spcPct val="14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7" name="Right Arrow 5"/>
          <p:cNvSpPr/>
          <p:nvPr/>
        </p:nvSpPr>
        <p:spPr>
          <a:xfrm>
            <a:off x="3962520" y="1219320"/>
            <a:ext cx="38088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ight Arrow 6"/>
          <p:cNvSpPr/>
          <p:nvPr/>
        </p:nvSpPr>
        <p:spPr>
          <a:xfrm>
            <a:off x="4719600" y="3311640"/>
            <a:ext cx="304920" cy="2286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1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Vigilância epidemiológica (VE)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295280"/>
            <a:ext cx="838188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A VE é fortemente recomendada como ferramenta de monitorização, prevenção e controlo da DACD, permitindo identificar o aumento da incidência e/ou a severidade numa fase precoce.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Open Sans"/>
              </a:rPr>
              <a:t>Definição padrão para identificação dos casos (B);</a:t>
            </a:r>
            <a:br>
              <a:rPr sz="5400"/>
            </a:br>
            <a:endParaRPr b="0" lang="en-US" sz="25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447920"/>
            <a:ext cx="81532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Open Sans"/>
              </a:rPr>
              <a:t>Diarreia</a:t>
            </a: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 – dejeções de fezes aquosas/pastosas, não moldadas, em N.º &gt; ao habitual para o doente, nas 24 horas ou num curto período de tempo, sem outra etiologia identificada ou sem administração de laxantes.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Open Sans"/>
              </a:rPr>
              <a:t>Caso de DACD: </a:t>
            </a: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 Presença de diarreia não atribuível a outra causa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Open Sans"/>
              </a:rPr>
              <a:t>e</a:t>
            </a:r>
            <a:r>
              <a:rPr b="1" lang="pt-PT" sz="2400" spc="-1" strike="noStrike">
                <a:solidFill>
                  <a:srgbClr val="000000"/>
                </a:solidFill>
                <a:latin typeface="Open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confirmação laboratorial de</a:t>
            </a:r>
            <a:r>
              <a:rPr b="1" lang="pt-PT" sz="24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toxina positiva (A/B) de </a:t>
            </a:r>
            <a:r>
              <a:rPr b="0" i="1" lang="pt-PT" sz="2400" spc="-1" strike="noStrike">
                <a:solidFill>
                  <a:srgbClr val="000000"/>
                </a:solidFill>
                <a:latin typeface="Open Sans"/>
              </a:rPr>
              <a:t>Clostridium difficile</a:t>
            </a: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, ou visualização de pseudomembranas através de colonoscopia ou diagnóstico histológico de colite pseudomembranosa.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010640" cy="14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Critérios de definição de DACD - categorização baseada na data de admissão na unidade de saúde e data de colheita de produt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23520"/>
            <a:ext cx="822960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DACD da comunidade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– DACD em pessoa com ≤ 3 dias de internamento; sem internamento prévio nas últimas 12 semanas;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690840" indent="-26568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Taxa – nº de casos ano para a população em risco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DACD associada aos cuidados de saúde da unidade de saúde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– DACD em pessoa com ≤ 4 semanas após a alta;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DACD nosocomial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– DACD em pessoa com&gt; 3 dias de internamento até alta;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690840" indent="-26568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Taxa - nº de casos por 10.000 dias de internamento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DACD indeterminada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– DACD em pessoa com 4 e 12 semanas após a alta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- Considerar novo caso se não houver episódio identificado nas últimas 8 semanas;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- Considerar caso recorrente se houver episódio identificado nas últimas 2-8 semanas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Manifestações clínicas</a:t>
            </a:r>
            <a:br>
              <a:rPr sz="6000"/>
            </a:b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160" y="961920"/>
            <a:ext cx="8305560" cy="50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Os casos de infeção pelo </a:t>
            </a:r>
            <a:r>
              <a:rPr b="1" i="1" lang="pt-PT" sz="3200" spc="-1" strike="noStrike">
                <a:solidFill>
                  <a:srgbClr val="000000"/>
                </a:solidFill>
                <a:latin typeface="Open Sans"/>
              </a:rPr>
              <a:t>Clostridium difficile</a:t>
            </a: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 variam entre</a:t>
            </a: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portadores assintomáticos,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doentes com diarreia ligeira ou moderada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e doença fatal.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Doentes suspeitos: doentes hospitalizados que desenvolvem diarreia ou qualquer pessoa na comunidade que desenvolve diarreia após a toma de antibióticos ou associada a terapêutica imunossupressora.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284400" indent="-28440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000000"/>
                </a:solidFill>
                <a:latin typeface="Open San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284400" indent="-2844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16:07:29Z</dcterms:created>
  <dc:creator>Alexandra Figueiredo</dc:creator>
  <dc:description/>
  <dc:language>en-US</dc:language>
  <cp:lastModifiedBy>Goreti</cp:lastModifiedBy>
  <dcterms:modified xsi:type="dcterms:W3CDTF">2015-05-03T15:39:34Z</dcterms:modified>
  <cp:revision>280</cp:revision>
  <dc:subject/>
  <dc:title>Diapositivo 1</dc:title>
</cp:coreProperties>
</file>